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422DB-14AB-434B-AF85-4519A7321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7B30-2DA6-4415-A4DF-2A7B4C7D5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021527-C514-4C01-85FD-A48C29032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7A5629-7F06-4965-932B-A7CA91B3C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6B53C-6072-4DC7-BA14-76E3F78F0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93CDE-2BFC-4837-94E9-BACC53618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36DB8-E6D2-4FB3-85E1-1B15BE297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0E0EA-0D09-4251-9436-39D52F423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3BA9F-37AE-4FC0-BBA9-878BE3AF8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0ABECE-E30A-4651-88D5-4EB77F1163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837B9-7ED5-4860-B6DD-74E5DAFB09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2D527B4-8B8D-4779-9867-3D1D6F7973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184D4-E4AF-4015-ABB8-81F157612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0CD3CBE-A645-43BE-B96C-C3F35EBA5F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906DF80-D510-4F8F-B734-A7C0F9D787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2EF5500-60A1-47B3-BCB1-2B2325E652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812CB0F-62BB-477D-8C8C-1125C43614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7FAF74C-ACC2-47A9-BC2C-4A46016CCB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01C926E-C2D4-444D-BBF9-41C8CF9E04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1C7CCFF-3A3C-4654-95E3-AE188BC5FF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B76C946-82FA-4842-97B9-2D43151084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DEDDCD4-2F8C-43FB-B160-1773AEC022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7404A7B-796B-4857-9F58-3115C41F73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CCCAB-6142-4D20-9FF1-43B87F0CF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C4AB773-E608-409A-A2C5-A992C44693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F83844-5361-4AA4-A202-1879B9F7B2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BF6311-9757-4209-B122-F6B8348C43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BB0292-F61A-40A7-BD7D-4F452DF0EE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0DFC84-FC0A-4110-A5B4-BF7C091EB3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D23074-B065-41B5-9F74-F05B24785A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F7D064-1215-4B2D-8CAA-351FE0C553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01E547-ADA8-407C-B082-986A1B9DE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D5EAA9-C1A7-454F-9D7B-5785544C98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F1F222-AA26-46D0-B9CF-F2DC1AC0A7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C39D9-06B3-4F25-B061-CCB975A12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95ECAD-7CBA-47F3-86F5-542B7297A9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7EEE6C-1EAC-4C7F-B7D6-75CADD49E2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D401E7-2B2C-46FF-82A8-DDB9D87860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2116330-E8C3-4613-8560-D1E6FA2085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9E853FC-73BD-4A24-8B21-C1BD99718B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0989117-51F8-4102-9776-FB03C06234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FA02C4F-18E1-4C7F-AF80-CBB76ABF01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CAAA551-AA58-48C3-99C6-449D8BB7D8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8C5CF94-149A-47F5-A937-0F0FC8C44D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5428C00-0215-4149-B06B-557F5702AA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567A5-8823-41F7-B8A9-2D19442FD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C9837FE-E4ED-4EEE-A6C6-ADAA24C382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C939ECB-0A76-4636-9872-CB2CE5CF45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2F9E793-EB3A-4581-9075-46FB38E08D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D65BFA8F-574B-4EAB-87F7-F18E148691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5159921-EA95-49BF-A9B2-F1E57C8C0B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EA71194-6754-4F59-B1A1-3744981318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5AF2C70-209F-4E67-8D7D-423C4A24E1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8B7261A-1A5E-46B2-AD31-A0ACE127BC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45DE6AE-8B1C-45A1-BCA9-43966C8443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9584A09-29C4-4E12-AA40-724CDB1EC0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21B6D-8955-4390-B419-2FFDC4D8F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686A5DA-6D7D-40A8-8ED4-A4DB6F6F06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64A0959-7DAF-4823-9C1E-21A6ECF809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5EE9002-404A-4FC3-A7EC-BDB6B5FAB4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512932B-4ABF-4307-99AD-80EB8C21F7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5EF1417-56EC-4D1A-844C-9120713580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CD9849CE-1242-4844-A203-F260D154E8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368AADA-9632-4AC1-A668-2F5AFDC1C9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E9CEA5-32D1-4AAD-9030-D30D966D38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FB8AF5-5555-4861-9D66-9CD4660F3F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3C7448-CFD2-45C6-B6FB-CC88633FDC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6FB73-FED1-411A-8AAE-C36BCD943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ECC01E-E5F0-4D64-BF22-2482117A5D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D0EE41-1627-495F-815C-45BFBABDB5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2E9BBC-1CED-4957-A364-DA2B9845A2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7E3BD0-BFA5-4DAC-8524-2AFAF7EEC4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89BC06-AAFD-4A01-945C-428186D3BD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337F6E-9D2F-43DA-AE8D-5F41F308AB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380F00-5528-435D-A671-FC4E826F43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F06461-6638-46C8-8353-092C9D5970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6E0D3D3-29D9-4ED2-B4C3-4EF9B39039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DAC9F2-BABF-43BE-AD96-AF310EAE86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53049-3CB6-4BA8-82CA-7D85E0986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7C8302-7349-45B5-823E-185C8942B4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706179-703B-4606-BB1E-9FC42709BC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3E5ADA7-4410-4030-BAAF-7BB40251C9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92F5B4-712D-4A56-87CE-70F32EC4A7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12EA7F3-A7FC-42F2-BD1F-527EC0DD96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5172DC-3D4C-4556-8DA7-CE18ABD8CF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F75F7D-C33E-41EC-BA88-3C8739D5EE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3451F1-5D04-4DD2-A073-61EF6D7D29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0A53B9-22B1-4061-AE8E-A3823920550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F38AB5A-861F-4C28-A9C0-E01A46D41A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262BA-84FB-4A0A-BBF7-35893FDC1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BC2C06-5001-4A03-9B1B-6969F7B568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CBD792A-EDB5-453B-AB70-C04B7B3002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089DE24-4977-4872-A23E-DE2C117474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419C56-B392-433A-8920-9F6A4C3D3F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486420-41ED-4BF6-80D6-9CC8A43E13D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8FDBA2-79BA-4B59-B506-3C96B915E2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621453-CEBC-4DF1-9A75-9375DB6FBC2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F54A1F-C3E0-437C-AF18-521ED2928A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57B95B-ED92-4319-8CC8-A5BD4A4FE0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D8414A-A7CB-4EF0-A766-1BA228B40E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DBBC-37F9-481B-8721-69E4F159A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128825-D848-439E-89F5-45263853C9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54F1C31-A7FB-4BE8-8489-A53628E143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613BBE-C5C1-42D5-B169-4DFA4ADC628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0CCCC939-FA8A-48AA-9D41-8FA56102F9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3F216577-25AF-4669-AFD0-FCFDA84B92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6EC1CE8C-018C-40CC-8DF0-2E9D4224D9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FE510BB7-AE32-467B-83B7-DB17158044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B06592A5-2055-406C-A316-9E4B29C153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B583583D-A7A6-4A28-8508-03ADFDA5C2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0F89B6FD-0B83-476D-A5B2-D2B740201B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6925-3BD0-4F7B-A315-8E9EEA381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92FBD-EA82-4412-9C58-AFC004C86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271AF51C-6BF0-40D0-A37A-85DA9F7FA7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6841ADE-525F-40EA-848D-EEAD80CD63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76146687-C3BD-47E8-A16C-BDD53D93234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949A2FCB-A7AA-4210-AABA-DAF7B24711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8F056711-F077-422D-88DC-9785BD52E6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E403E2E-B1C0-4385-AF33-C351838DF0C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88A047-6995-4B8A-9701-FF95DE4C7B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082FC2-65FD-4FAE-A49B-F8C541AD47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CE4E50-22CF-4107-B3E3-191A82DC9B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21B818-2DC9-4A6B-910B-230E2C329CA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6ADA1-C3A4-459D-9482-3C0D21F4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3BB192-D7AF-428C-B216-1291692195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5A6A3B-F95D-4857-9CF6-B5ED9D1289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E59290-80B5-48A6-AE95-D7DCFA6808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0D37A9-D4C0-4FCA-B41F-70617E7652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24E181-031A-4340-8949-2327C435E54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117B6E-A259-4F66-AF5A-4F483770FA7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877943A-5A2C-460C-B5CE-62EC017E43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17715E2-F0C3-4B8C-9B52-B7682A0FC32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D6A50EE-97C0-4E6E-BAB1-752EB10395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A44398-6414-462D-AAB9-614C125542F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4DFDD-91C5-407D-9A5B-C64C3CD50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20AEC6-4DD7-4FF7-B1DB-C7E22358CE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4C38055-AE98-4B75-9827-8F0ED66F27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17E06E-08CA-466F-BB13-8554282B9A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EAC406-57FC-4E06-A513-94C5A6043A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18B542-E06E-4CAC-8A29-9632297FCD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AB7E72-35A3-4055-82A9-0F9D139D54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63D4F1B-B142-4F92-B572-251072CA09F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D80A50D-627B-4AD8-A5AF-B75D29AF2D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1A7276F-D46E-4BAF-99C0-24010FF137F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28BDDAA-2966-4C0A-9814-202948AA90C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1E8CD-8C61-4A5E-94F4-A099BDE87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97B425-A29C-48D4-8A3F-FC0BE78E8A0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F8D12F-D93B-4307-AFDB-E23A9F56E0A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0BEF18-0242-4AC2-B6B3-19C9B1AD83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4030F9-33F7-465A-9D93-1F1879BF28F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3ADE797-020C-434C-AE99-1510801281F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C2F308A-8E93-43A2-B78A-68437375BC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DC2917-EE48-4FE9-AF4A-9F1ABE1ED4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EAC4F0-4FB0-461B-95C2-1C6B04E25D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05D909E-DFD8-41D3-B8D0-98D1D1DD63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1ED67BB-164F-4109-B557-53316840C5F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B298B-018B-448B-B755-ABF2A775C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059ECDE-358B-4DF0-86D6-9BBE07A26F5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8EFF20FE-6E91-4BE0-A58E-964E57855F6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B97BBD27-5F99-4FD5-B130-331470CDE1F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797FAAF3-00A4-4BE3-85BD-2880768C9D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DCC3347C-8555-46E0-A707-FC286DE3975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676710D0-6C52-4C5B-B2D7-8E9332B115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3DFD319-F9E3-4A0A-9C9D-3F53B005547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99FF4948-6A2B-49FE-87F6-7041488457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CFEA2BB4-02C3-41E2-B8CB-B2D44827514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E8165D1B-47DE-4B64-9E11-85C2C856B6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7B63D1-D4B9-4EAD-B10D-BE003992A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94622E89-D851-4D86-96EC-CB3ACC08320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5A7F96AC-CDCC-42A4-B651-3E85D04D00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4C641A5C-378C-42C7-B3FF-93E9EB511D1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3D30109-7E27-420C-9AD0-CAA07679F91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38A3CF4-08C1-4C08-BD8A-22F7818219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25E4AB5-6A3E-4E0D-81AD-682458DD3B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697F8EC-D564-4403-B04C-9D0A53CE255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AF9B884-3F8C-4B58-AAF8-E8871F2C20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539BCEB-F591-4247-B083-AF731AD16E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D88979-2E0E-4444-9C8B-E794693F05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FB872-7143-46A9-A1ED-BF2885F6C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567A00-6351-4861-B5F1-867EBE03E4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3A45C30-F404-4B9B-BFE4-DCD5672FD4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24692B-7B25-4860-A7AE-D6C2AF79EDA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BBD72BC-27C5-407A-9C73-E7166EA799C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00C53C2-D760-46B8-9870-0426E8DD644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69EA582E-FDF6-4A37-839C-6B64CB5507C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5078F1B8-9CC8-4F03-8721-FA8011D156B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6B125B3A-E74B-47DC-B59D-2BAA7CBDBA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D9B031C4-C166-49A0-A2B9-158621736C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A8BBD25A-F4C4-4A11-9E14-174B0163124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A03CB-E1C9-44E4-A80D-1177DA1D8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91E282AC-0739-496C-9DAA-98CE336496C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160A905B-0E37-4A58-8664-B0FA6BB139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DB2BB99D-F79F-419B-A142-0A635B84537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935E95B5-8ED5-4F64-AA3A-E46332BF20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E81AFE76-422C-488F-BCFE-4C8229B33D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203D6661-5B11-416A-AF4B-EDA0CA377DF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B8BBA9C5-927F-42B6-99AF-C0D2C242D36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77F9A6A8-811E-46C8-8E05-0BA8665F77F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37361460-E9B1-482E-BADB-E4C171176C1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0D20CDA0-B508-48CD-BC56-6CD1256134B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C7C43-D2AA-4257-B690-96A145D33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5A41531D-9ECF-4D51-9AF1-97BA73893CA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B3909F62-FB25-4A34-8F56-D3338CA7C3E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22404A1E-639B-4A35-AEC1-8AE8D06EF82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E3C59351-C25A-4979-987E-D22EC8D20DE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9B654834-6099-44D7-98DD-43768BE6AB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B1CB8315-C1B6-4212-9CB7-FE14104E45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F250A4E2-2AB4-401B-ABCC-3B7807EC377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A9CE3D12-10D2-447B-BCB5-BC6829FCB34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6D9C8FFC-CEE1-4B7A-9E04-B287DF3B8A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E5BD647-CF97-4452-BCBC-025B26D935F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CC141-54EC-4334-B9D0-07541BC50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F7C38C0-A6D8-4C81-9B2E-59AD5A012E1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CFA0632-C774-422E-BE27-0C59C8E30DF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42E4C6-5F76-4859-9E22-CBFA0D41A0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C3D196-206C-4E0F-A87F-2A38F50C482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5C55437-826A-4D26-87C3-F8656146625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A9F97D3-F006-4672-A50E-2A440537B90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716560-D391-4283-A32D-5E966C322FB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E913C8-836D-480C-B1FD-847E82AEBB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9A7469C-29F1-4BB7-927A-58F95EA5D97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60A727-4562-4160-B9C9-20669577DE4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0966-5FAB-42DD-A0CF-A0905DA4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A96D1-4B0C-496C-B4B7-FF8A69330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737EE18-5D62-4A9C-9A49-7561EF8023F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FFCFA69-C133-441D-B225-6D868ADFB56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C45173B-ACEC-40E6-824B-06F10223DD6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DBA1152-2CC1-42BF-971A-B6EF76C5FE5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82812FC-C2CA-45F7-9C03-0E37EF99665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B0288E5-9BAF-4C25-8D6B-969F101E41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22DB421-DAC4-45C1-AF22-355C1ABAA23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F5F2C6-8FB7-4B3D-9F5A-B8458010A31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12273C3-7825-40C2-86B2-74DD45FFD9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E1A5AD5-9E88-4F5D-B75E-37FACA24A5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42125-07E9-4C95-8EDC-2A21FBD68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3D1705A-41AD-42D4-900C-B076DED671A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CD4C9E9-3331-487F-8688-D6FEDD4AA48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67E40B4-1066-4122-A662-2F807955956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AECF932-8845-4B02-A279-94629046CA6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0BD39CB-655C-4CAA-B1BB-FB842CC9A70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5CB8511-FCBC-45D5-8CC7-59C68C0CCCB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9D7F9F9-71AE-46BF-9A6D-40C0B68955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2F0769D-2DEE-43F8-98FF-D4CC4ACA92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C07364A-C1D2-4143-9BDC-9623620392F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8C7F29-7CA8-4BD6-9E20-0A7FF17649E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0EB5C-882E-404A-8938-08F787450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986C00E-0C14-4944-A113-505E5ED161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CB7D0BB-5587-46AF-914B-47477D786E7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9216E4B-33CC-47C0-A39B-A93E9EB33A4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7854C9F-EAD7-4426-8C03-40124002069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375E73-6C54-4BEF-B32F-6A788689B2B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7424DFB7-9634-4396-B4D6-F96AC939AAB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9BB9A195-C3F6-486F-85ED-BB48622BFAD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97E0C513-9D44-4E15-8D48-14A31EF11F8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7CF8997D-A629-4EF0-AC53-CFD4075A19E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1E600B11-B90F-4919-B211-E7E5A28FBC9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22F88-A1C9-46F4-8143-EFFDFADB1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3B0276A5-7D1E-46B9-BC0E-D1B5D4C1E2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21AF7BA6-3AE4-4CCE-8CE4-DEE3B8EFAEB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5D0FBD20-E1CA-45EC-BD05-4B28FA98F3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85BC0F12-00DD-4C55-8EEC-304BBE9457C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1E505202-0BCF-45F8-BD11-8A1B67EE73A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B312EBCB-B0CA-4F0C-9634-BCFE91FB67C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94C01CCB-56CE-4A17-9F57-56B13AB792F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F589374-83F6-450A-8B42-3D15231543F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E628D35-250A-4591-BAD2-8A5BC0A969E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67CF633-2A68-48B9-9EDD-A7D68E3DE2A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EF8AF-3186-402F-9A80-A95AB6E3E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2B215EC-FDE9-46D5-B135-6C8D041692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0D9AE07-69D5-45BC-8CB3-2EA40965165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B4AC900-6A0B-4CCE-BF3E-473DB562F8A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C1FBBED-8CBC-4BA1-B79B-4A2DFDE29B5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0CB18C5-F739-41BA-BE64-72ECA8675FC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53A83C2-A3D5-41A6-BD9B-2FF9C5B80F1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A7893CC-39DE-4A11-91C1-BCA85A025FE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B88A961-01C4-441C-9204-1E65B695445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F4F8154-3C91-44D8-89B5-349961EAF97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D31F328-24AB-4453-89DF-2739F1E1656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2B889-63B9-494A-9156-DABB55268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42666ED-B335-4B99-B5C5-B8E9A64EDD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7E6DA9B-468E-40D6-9052-54207FD001C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E99C8F9-E9C3-476A-AAED-992F5C4A400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9608679-E803-46DB-A0F9-5406269237D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0DFFA4C-F63B-40A4-9F1C-6BF4A57C37B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B3EA1E-4F64-43E8-AD5F-86184BC52F9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0D28280-0F54-49C2-A582-8C210A9B3F4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B76E69-CFF8-446A-A703-687E03178A4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8BF76FE-C2BC-4D60-8766-D9B526FE991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0B60472-5A58-4E1B-AA72-E540551CE69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57C3C6-2BB5-43EB-B117-36EE9715E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05A7A51-289C-4299-B2AA-0726482263C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39FBC51-04BC-4D08-B8BB-323317D5A29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4C767D2-DDE2-4CF1-82A6-501504594F6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F2C0E72-FAE8-499C-B5F5-1AD85DFAE2D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31EB192-84D2-4DFC-B668-9738F670BF5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A4480BE-533D-4B57-AC18-1983103B438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B16BC35-3A40-4992-96EE-E0613D52F2B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25D3A38-A557-4647-B30A-DC6BF4F0A38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0797269-FF30-49BE-81A3-4A77FF357FB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5FD170B-0547-4C4E-BCB6-947422EA76E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82A36E-BD6B-4279-A811-3FEC6A1F82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7F05C4C-5A7E-4568-8F92-53DD95B2BFC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EFE6687-1813-4C8C-88D7-B555785B2A4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E1F5AE3-8FC6-4EE9-8BB7-77B4B07D1AB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5"/>
          </p:nvPr>
        </p:nvSpPr>
        <p:spPr/>
        <p:txBody>
          <a:bodyPr/>
          <a:p>
            <a:fld id="{D889ED88-D702-47DC-AD8F-D21A6E6F755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5"/>
          </p:nvPr>
        </p:nvSpPr>
        <p:spPr/>
        <p:txBody>
          <a:bodyPr/>
          <a:p>
            <a:fld id="{8B70CBA5-7899-4ACD-B935-566FDF01970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5"/>
          </p:nvPr>
        </p:nvSpPr>
        <p:spPr/>
        <p:txBody>
          <a:bodyPr/>
          <a:p>
            <a:fld id="{E12D6147-C516-48AC-A945-B734B51EE24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5"/>
          </p:nvPr>
        </p:nvSpPr>
        <p:spPr/>
        <p:txBody>
          <a:bodyPr/>
          <a:p>
            <a:fld id="{7557D547-0B9F-4607-A208-7668288ADEA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5"/>
          </p:nvPr>
        </p:nvSpPr>
        <p:spPr/>
        <p:txBody>
          <a:bodyPr/>
          <a:p>
            <a:fld id="{D286692D-7E30-41D1-9CAE-371BE995FFA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5"/>
          </p:nvPr>
        </p:nvSpPr>
        <p:spPr/>
        <p:txBody>
          <a:bodyPr/>
          <a:p>
            <a:fld id="{C236689C-92FE-491F-8D52-DD24BE2BC4E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BD5CAC6D-AD82-4862-978C-9FF75D25D50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34E19-3AED-47E9-85D5-D69952EC5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3D4D537E-3653-4FE7-9BD1-7D8B750C5D6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E4B068BA-F0A7-411B-9379-8974A6230C7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5"/>
          </p:nvPr>
        </p:nvSpPr>
        <p:spPr/>
        <p:txBody>
          <a:bodyPr/>
          <a:p>
            <a:fld id="{15261F21-3E33-4F1A-8A06-A3BF1332A2C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5"/>
          </p:nvPr>
        </p:nvSpPr>
        <p:spPr/>
        <p:txBody>
          <a:bodyPr/>
          <a:p>
            <a:fld id="{C25D9EAF-A54A-4EC9-9E4C-39FCA796417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5"/>
          </p:nvPr>
        </p:nvSpPr>
        <p:spPr/>
        <p:txBody>
          <a:bodyPr/>
          <a:p>
            <a:fld id="{BCE63355-1A2D-4B75-B2EE-8297370157A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A1552A3-A6A2-4617-8D80-96E1E8E561C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1C317FC-009E-458D-A11E-3608F2843ED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DB76991-1D69-49AD-B574-3AB5CD7747D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56BDD04-A921-4DDF-ABBB-077D0106783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FC80BCE-B6C7-4F29-A7E1-15417B1D71A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8B2C5-A99F-4FCC-B22E-0F7E1B740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C093258-C397-47F7-85C3-A099CCB23C2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0445847-179C-459F-AACA-B51EFE8B4CF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6DFC790-1730-4C2B-9DEC-4648E65ABEC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AE9CBA8-AA5F-487F-8377-787392733B9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91E3A72-01A9-4514-A06E-437B2E313F9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8C10AD3-6D2F-4592-92AD-10EE0264EB9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00D0161-C9C2-41CC-8519-FBB978DFCA0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1"/>
          </p:nvPr>
        </p:nvSpPr>
        <p:spPr/>
        <p:txBody>
          <a:bodyPr/>
          <a:p>
            <a:fld id="{D9983373-70C9-4A6A-94C9-E498C097D9F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1"/>
          </p:nvPr>
        </p:nvSpPr>
        <p:spPr/>
        <p:txBody>
          <a:bodyPr/>
          <a:p>
            <a:fld id="{E06A045C-DA58-4311-9146-F8721765533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1"/>
          </p:nvPr>
        </p:nvSpPr>
        <p:spPr/>
        <p:txBody>
          <a:bodyPr/>
          <a:p>
            <a:fld id="{8CA54F96-7E96-45F8-B09D-59E77128D6E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09CC-C129-4FB6-BBB5-3F78D66A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90F0C-B2D1-4653-9D56-17113FC70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1"/>
          </p:nvPr>
        </p:nvSpPr>
        <p:spPr/>
        <p:txBody>
          <a:bodyPr/>
          <a:p>
            <a:fld id="{E2BA9190-AAE9-463C-97B2-69A5A80EE1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1"/>
          </p:nvPr>
        </p:nvSpPr>
        <p:spPr/>
        <p:txBody>
          <a:bodyPr/>
          <a:p>
            <a:fld id="{D7111F1F-8697-4F32-A736-72F489D06E7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1"/>
          </p:nvPr>
        </p:nvSpPr>
        <p:spPr/>
        <p:txBody>
          <a:bodyPr/>
          <a:p>
            <a:fld id="{71010B22-9D01-43E1-AD40-B41B709D7B7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7EA74278-2473-46B4-805A-C9CA7EB7711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F2EDE451-DEFA-48E1-91C0-FCFA2279CE5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DBB336B9-20DB-41A8-96BE-2D5082538B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1"/>
          </p:nvPr>
        </p:nvSpPr>
        <p:spPr/>
        <p:txBody>
          <a:bodyPr/>
          <a:p>
            <a:fld id="{806AF472-FAE2-4C93-A376-BFE2BA6F802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1"/>
          </p:nvPr>
        </p:nvSpPr>
        <p:spPr/>
        <p:txBody>
          <a:bodyPr/>
          <a:p>
            <a:fld id="{60387C87-FD9B-4E1C-8418-AB432970FED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1"/>
          </p:nvPr>
        </p:nvSpPr>
        <p:spPr/>
        <p:txBody>
          <a:bodyPr/>
          <a:p>
            <a:fld id="{0E5952EB-C74A-4B9A-B6D8-93D476C5187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4"/>
          </p:nvPr>
        </p:nvSpPr>
        <p:spPr/>
        <p:txBody>
          <a:bodyPr/>
          <a:p>
            <a:fld id="{92F08CFC-DA1E-4C34-AD21-B3D86459F4B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A83F8-B917-4821-8F5B-E678557B9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4"/>
          </p:nvPr>
        </p:nvSpPr>
        <p:spPr/>
        <p:txBody>
          <a:bodyPr/>
          <a:p>
            <a:fld id="{E36CC720-88FC-40EA-8EB7-2F3B07B1C08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4"/>
          </p:nvPr>
        </p:nvSpPr>
        <p:spPr/>
        <p:txBody>
          <a:bodyPr/>
          <a:p>
            <a:fld id="{51F14872-9664-4417-B100-C48C1EE221D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4"/>
          </p:nvPr>
        </p:nvSpPr>
        <p:spPr/>
        <p:txBody>
          <a:bodyPr/>
          <a:p>
            <a:fld id="{BBA09A28-762D-4FD9-AFD6-0A75B4FEA23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4"/>
          </p:nvPr>
        </p:nvSpPr>
        <p:spPr/>
        <p:txBody>
          <a:bodyPr/>
          <a:p>
            <a:fld id="{974E23E4-2921-4EE7-89A5-77A34047AB5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4"/>
          </p:nvPr>
        </p:nvSpPr>
        <p:spPr/>
        <p:txBody>
          <a:bodyPr/>
          <a:p>
            <a:fld id="{B76B26C0-D45F-4B80-BCB8-893280B35C4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442E21A2-2005-4F78-A15B-C0F7E80F613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785B2E00-D73F-42AD-8D05-6C6B71C2D91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A6C1BBD8-E24B-4848-A7A0-0FECA9BE916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4"/>
          </p:nvPr>
        </p:nvSpPr>
        <p:spPr/>
        <p:txBody>
          <a:bodyPr/>
          <a:p>
            <a:fld id="{60010596-BF70-4DCE-8889-A22C4B091E5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4"/>
          </p:nvPr>
        </p:nvSpPr>
        <p:spPr/>
        <p:txBody>
          <a:bodyPr/>
          <a:p>
            <a:fld id="{3A7C17D4-EAC3-4FAE-813E-D46F3ED5587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565D6-8F08-4461-8197-E1BEDAE47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4"/>
          </p:nvPr>
        </p:nvSpPr>
        <p:spPr/>
        <p:txBody>
          <a:bodyPr/>
          <a:p>
            <a:fld id="{D1280CDB-FFF7-4CB9-9AD2-A3A1C39EFD5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EA189C0-4BC9-4B0B-B74B-82C2624F9DD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CCD7D83-3512-4B2D-9BB4-DFE3FA1BC4A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70AE085-0792-4657-9D5C-1031C1D29A5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00B0775-7A5A-4D6A-AA73-7E4664D8A22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7929360-705B-4569-9272-1A6BE8BFC14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D64AEAA-599F-4048-916B-E32BA2FA3CD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1E1DCB7-96DC-460C-8892-B22E5CBBA52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FFA2668-1F9A-4376-8661-C92B0AF975C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C3C5A41-3851-4717-9A68-27042F3DEE1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ACAB5-8C59-4DE5-905F-5FC4C9419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4DDAEB2-724F-43FD-BFEC-ED562DE9A27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8D3F21B-3B9B-4955-9649-6A8C017B8B6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CC08FEE-99BF-40A9-A73A-8A90940463D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598EFF5-2C70-499A-A8BE-DDB3194CC8F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6991C3C-EDD5-4A2D-8AC2-13392D56C49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2109404-776A-44FC-9836-FCDE0CE7CC0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6FCD404-694F-42C0-99B0-9A9C95DD0D9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90DAAEF-96DF-42C6-907C-9DD763E6D3B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7356DF3-0002-4855-BA4A-4E4ABE0AA5D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00B1C04-CE3A-4F2C-B116-B0F3E563F42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A1192-633D-4D08-8138-D0E5948E6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A2E438A-F80C-47DD-8C06-02D6D483CE9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A866737-7AB4-469A-8E91-A8F33189F40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9409C15-48D7-4989-8E33-D5E35E8B503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E1C06EB-8161-44EF-A228-D30A33A7969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AB217DB-0575-48A5-B978-5FA5DCCB88F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D9C19-0224-4BBE-BDFB-3E62BC4C0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234C4-30A8-4526-A9EC-27FF1A4DA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DF170-A6AD-4370-BB09-1E2F8B44DE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CB87C5-28CA-4EE0-8C39-1C4F7566FD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9FEDB8-EF75-4535-AF93-798858E4C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D12E-0433-4815-95CF-4A3C1A4A2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C5107-07E5-4EAE-A64F-D42696814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3DC90-0B9C-4088-AD15-7B25E09D7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D9F08-A26E-47A6-B955-4469D57B6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F26E5-690A-4BA1-B289-F6DC41418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A537F-058A-46DD-BB66-5441FFA68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B3CA28-2AB8-4AEF-8EDD-134103D53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8300B-5D3D-41C8-BF90-1CFFF7F9D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3FDDD-B9C2-4345-8255-BAE19E7D5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2F91F-359C-4746-8A67-2842C19EC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8191CB-25E3-4D26-B66E-FA35145F6C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8AA0-6C8F-4A40-BA72-5C89ACE51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179A79-1C31-42F6-A57B-0213A40690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1BADB1F-1BC4-4638-9152-C7AF13144B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A7B1C6-E4B9-4C95-BB0D-3A854AAD4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3FB59F-B99B-4DDE-8C1A-6B9FE0956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C824072-AA2C-4690-AD0E-649C9EC2B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791981-395F-4895-BC79-1C55F0D65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0F7BDF-12C0-423F-8204-AFE811DFF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406779-BC7F-4E31-960D-BF3EBCD30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5F7833-A358-4692-9E6A-9C05FB902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3F3A29-1D3F-4CA9-9A37-26AF8874A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3623-E293-4507-B5C2-732E8A1A6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3811EA-E9C2-4C29-9A46-E6ACC779A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AF23A44-6B45-43F0-870B-8E1601D60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19AED2E-4439-4A2D-8C90-E9CBC7718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50F30B-E1EF-4312-962D-BD6C226FD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052A9-00D4-4740-9036-554DEF3FAD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A9B26-4626-4EBA-9B2D-54E31B178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F1CD6-A3B3-41AF-87F2-163723618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7418D8-5CE3-463A-86CD-CE86376A4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85D83-661B-4358-AE51-9725FC55A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130FC-B8AC-4015-B0EC-A6F38A001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C9D7-6265-4ED8-A65E-3ED0F1AC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D0A30-3F5D-40AC-8F43-B5B2CCAAF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B06D2-B789-43A1-9DC3-861FCCC2F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87F96-3795-45C3-8729-8FE05D09E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781725-EAED-4BE6-A2A6-8AD21E3B56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94B49-0F0A-44AA-95CB-50BB040C7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C4C819-9542-46E6-BACB-05856BFA47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58AEE-2BF7-4511-A2D8-7D3489CD41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12D5C-59C5-4435-978C-52CB70B1B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BC3FC-28A6-4E35-9122-453C7B179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161D1-0421-4EEE-B692-0B8EBC42A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E9B0E-B3F4-4D5E-9DFC-660F10B4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91509-4A21-4D17-A4C6-618F082F7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C8BBA-B5F7-47F3-A532-CC4492FA9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2CC0D-AB0B-49BD-978E-7873B7E94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381E7-EF3C-46B8-82DF-7669950EA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51CF1-00A9-4776-BE23-BBF19AB83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C23716-DFA5-4121-B54D-AED6DD8FDE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E03BC0-E283-441A-85C2-3A74D9DC9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3716EF-257B-4DC1-AADD-420948D4D1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B00BD-453D-4936-93A4-8FEFD19947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F30EF-E653-4F98-8018-D907A50517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4453-7F7D-4033-A9B8-17774BF71E3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Times New Roman"/>
              </a:rPr>
              <a:t>المسؤولية المجتمعية الايزو </a:t>
            </a:r>
            <a:r>
              <a:rPr b="0" lang="ar-IQ" sz="1400" spc="-1" strike="noStrike">
                <a:solidFill>
                  <a:srgbClr val="000000"/>
                </a:solidFill>
                <a:latin typeface="Times New Roman"/>
              </a:rPr>
              <a:t>26000</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4CE3-7DBC-4F86-8CEA-3C51C15AC70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4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5"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40E2-6931-4397-95C2-40E0A39EB29E}"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4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F96A-D9CE-47A1-B957-4C39F7684E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7"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9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9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CB9B-83A7-4893-AC90-99DEAC60FA6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93"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DE1C-33FC-4F7C-9929-6771A8FAB7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53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40"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C3AA-CAC5-465B-B26C-D7C7EBC7814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541"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CDBE-A571-4EA4-BF76-4D54177CEF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2"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58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88" name="PlaceHolder 3"/>
          <p:cNvSpPr>
            <a:spLocks noGrp="1"/>
          </p:cNvSpPr>
          <p:nvPr>
            <p:ph type="dt" idx="3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E8B2-241F-4515-B2E1-2BB30158FE2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589" name="PlaceHolder 4"/>
          <p:cNvSpPr>
            <a:spLocks noGrp="1"/>
          </p:cNvSpPr>
          <p:nvPr>
            <p:ph type="sldNum" idx="3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ADA7-4DCD-4883-8AA1-37AFDFACDA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90" name="PlaceHolder 5"/>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35"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FFB4-0571-4DF4-BEB2-F60E3002E16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36" name="PlaceHolder 4"/>
          <p:cNvSpPr>
            <a:spLocks noGrp="1"/>
          </p:cNvSpPr>
          <p:nvPr>
            <p:ph type="ftr" idx="4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5"/>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AF3D-7436-4BAF-B4EB-932ADB305A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82"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ED7E-4F7F-4F2D-A949-F57A96E9391F}"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83" name="PlaceHolder 4"/>
          <p:cNvSpPr>
            <a:spLocks noGrp="1"/>
          </p:cNvSpPr>
          <p:nvPr>
            <p:ph type="ftr" idx="4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4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873B-EC01-4389-AEEE-7E4F91AF36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73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739" name="PlaceHolder 3"/>
          <p:cNvSpPr>
            <a:spLocks noGrp="1"/>
          </p:cNvSpPr>
          <p:nvPr>
            <p:ph type="dt" idx="4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2453-7AE9-457B-AE7B-F5050F390B4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740" name="PlaceHolder 4"/>
          <p:cNvSpPr>
            <a:spLocks noGrp="1"/>
          </p:cNvSpPr>
          <p:nvPr>
            <p:ph type="ftr" idx="4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5"/>
          <p:cNvSpPr>
            <a:spLocks noGrp="1"/>
          </p:cNvSpPr>
          <p:nvPr>
            <p:ph type="sldNum" idx="4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DF44-7E87-4A02-AF3F-4BCEBD1787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78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786" name="PlaceHolder 3"/>
          <p:cNvSpPr>
            <a:spLocks noGrp="1"/>
          </p:cNvSpPr>
          <p:nvPr>
            <p:ph type="dt" idx="4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6ACB-5123-4509-90DD-555E1AC03DC2}"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787" name="PlaceHolder 4"/>
          <p:cNvSpPr>
            <a:spLocks noGrp="1"/>
          </p:cNvSpPr>
          <p:nvPr>
            <p:ph type="sldNum" idx="5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EE22-D81D-4A1B-AB6D-4B23C01496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88" name="PlaceHolder 5"/>
          <p:cNvSpPr>
            <a:spLocks noGrp="1"/>
          </p:cNvSpPr>
          <p:nvPr>
            <p:ph type="ftr" idx="5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825"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84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843" name="PlaceHolder 3"/>
          <p:cNvSpPr>
            <a:spLocks noGrp="1"/>
          </p:cNvSpPr>
          <p:nvPr>
            <p:ph type="dt" idx="5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F424-693E-4141-81A1-1E50AD3303C2}"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844" name="PlaceHolder 4"/>
          <p:cNvSpPr>
            <a:spLocks noGrp="1"/>
          </p:cNvSpPr>
          <p:nvPr>
            <p:ph type="ftr" idx="5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0C52-41E0-410E-A43E-FEBDB91660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88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90" name="PlaceHolder 3"/>
          <p:cNvSpPr>
            <a:spLocks noGrp="1"/>
          </p:cNvSpPr>
          <p:nvPr>
            <p:ph type="dt" idx="5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A22C-E56E-4886-A7E4-DAA49192F53A}"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891" name="PlaceHolder 4"/>
          <p:cNvSpPr>
            <a:spLocks noGrp="1"/>
          </p:cNvSpPr>
          <p:nvPr>
            <p:ph type="ftr" idx="5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5"/>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4733-FA44-4303-9B16-96CB71F51C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0060-533E-451F-B4E9-071774F9EE2B}"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A52A-60D5-45C7-BB13-B69021C54DE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37" name="PlaceHolder 3"/>
          <p:cNvSpPr>
            <a:spLocks noGrp="1"/>
          </p:cNvSpPr>
          <p:nvPr>
            <p:ph type="dt" idx="5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879B-EE58-4A36-95E3-CEE6343DEF4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938" name="PlaceHolder 4"/>
          <p:cNvSpPr>
            <a:spLocks noGrp="1"/>
          </p:cNvSpPr>
          <p:nvPr>
            <p:ph type="ftr" idx="5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5"/>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A74A-EE1B-4CD5-B7DF-C939CFD6BF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8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84" name="PlaceHolder 3"/>
          <p:cNvSpPr>
            <a:spLocks noGrp="1"/>
          </p:cNvSpPr>
          <p:nvPr>
            <p:ph type="dt" idx="6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BD8E-20B3-4137-A057-D664AEC4918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985" name="PlaceHolder 4"/>
          <p:cNvSpPr>
            <a:spLocks noGrp="1"/>
          </p:cNvSpPr>
          <p:nvPr>
            <p:ph type="sldNum" idx="6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2A78-574B-462C-BA07-CB730E41C4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86" name="PlaceHolder 5"/>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03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31" name="PlaceHolder 3"/>
          <p:cNvSpPr>
            <a:spLocks noGrp="1"/>
          </p:cNvSpPr>
          <p:nvPr>
            <p:ph type="dt" idx="6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1F03-2125-47A9-B5B9-BC8F47EB638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032" name="PlaceHolder 4"/>
          <p:cNvSpPr>
            <a:spLocks noGrp="1"/>
          </p:cNvSpPr>
          <p:nvPr>
            <p:ph type="ftr" idx="6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C089-C0A3-4C1B-96C4-767E733282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0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79" name="PlaceHolder 3"/>
          <p:cNvSpPr>
            <a:spLocks noGrp="1"/>
          </p:cNvSpPr>
          <p:nvPr>
            <p:ph type="dt" idx="6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3A02-EAF7-4D34-B5F6-ADB5E7832B26}"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080" name="PlaceHolder 4"/>
          <p:cNvSpPr>
            <a:spLocks noGrp="1"/>
          </p:cNvSpPr>
          <p:nvPr>
            <p:ph type="sldNum" idx="6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0A40-4CDE-496F-94EC-763EB1F83F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1" name="PlaceHolder 5"/>
          <p:cNvSpPr>
            <a:spLocks noGrp="1"/>
          </p:cNvSpPr>
          <p:nvPr>
            <p:ph type="ftr" idx="6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2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27" name="PlaceHolder 3"/>
          <p:cNvSpPr>
            <a:spLocks noGrp="1"/>
          </p:cNvSpPr>
          <p:nvPr>
            <p:ph type="dt" idx="7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5A63-EC46-4FCB-929F-2CD735C82AD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28" name="PlaceHolder 4"/>
          <p:cNvSpPr>
            <a:spLocks noGrp="1"/>
          </p:cNvSpPr>
          <p:nvPr>
            <p:ph type="sldNum" idx="7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9A83-B349-4311-8D48-08641D61AE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29" name="PlaceHolder 5"/>
          <p:cNvSpPr>
            <a:spLocks noGrp="1"/>
          </p:cNvSpPr>
          <p:nvPr>
            <p:ph type="ftr" idx="7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7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74" name="PlaceHolder 3"/>
          <p:cNvSpPr>
            <a:spLocks noGrp="1"/>
          </p:cNvSpPr>
          <p:nvPr>
            <p:ph type="dt" idx="7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535E-E300-43E1-A60D-E27A194EEFAE}"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75" name="PlaceHolder 4"/>
          <p:cNvSpPr>
            <a:spLocks noGrp="1"/>
          </p:cNvSpPr>
          <p:nvPr>
            <p:ph type="ftr" idx="7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PlaceHolder 5"/>
          <p:cNvSpPr>
            <a:spLocks noGrp="1"/>
          </p:cNvSpPr>
          <p:nvPr>
            <p:ph type="sldNum" idx="7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B41B-CAFE-4B7A-AB38-46672A0361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22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21" name="PlaceHolder 3"/>
          <p:cNvSpPr>
            <a:spLocks noGrp="1"/>
          </p:cNvSpPr>
          <p:nvPr>
            <p:ph type="dt" idx="7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41D2-26BF-44E6-98FB-20A926AC45B1}"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222" name="PlaceHolder 4"/>
          <p:cNvSpPr>
            <a:spLocks noGrp="1"/>
          </p:cNvSpPr>
          <p:nvPr>
            <p:ph type="ftr" idx="7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5"/>
          <p:cNvSpPr>
            <a:spLocks noGrp="1"/>
          </p:cNvSpPr>
          <p:nvPr>
            <p:ph type="sldNum" idx="7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F45D-59C0-4967-92CF-1ABD30192B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27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78" name="PlaceHolder 3"/>
          <p:cNvSpPr>
            <a:spLocks noGrp="1"/>
          </p:cNvSpPr>
          <p:nvPr>
            <p:ph type="dt" idx="79"/>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18F3-845D-4289-AA21-4D50F2882DB6}"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279" name="PlaceHolder 4"/>
          <p:cNvSpPr>
            <a:spLocks noGrp="1"/>
          </p:cNvSpPr>
          <p:nvPr>
            <p:ph type="ftr" idx="80"/>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PlaceHolder 5"/>
          <p:cNvSpPr>
            <a:spLocks noGrp="1"/>
          </p:cNvSpPr>
          <p:nvPr>
            <p:ph type="sldNum" idx="81"/>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239A-607B-4E56-AF7E-44E97D6D85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32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25" name="PlaceHolder 3"/>
          <p:cNvSpPr>
            <a:spLocks noGrp="1"/>
          </p:cNvSpPr>
          <p:nvPr>
            <p:ph type="dt" idx="8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2DB8-3FA1-4B5C-90F8-0E2C68BB367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326" name="PlaceHolder 4"/>
          <p:cNvSpPr>
            <a:spLocks noGrp="1"/>
          </p:cNvSpPr>
          <p:nvPr>
            <p:ph type="sldNum" idx="8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96B5-FE37-4E27-B4EC-98302DBB9C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7" name="PlaceHolder 5"/>
          <p:cNvSpPr>
            <a:spLocks noGrp="1"/>
          </p:cNvSpPr>
          <p:nvPr>
            <p:ph type="ftr" idx="8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364"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13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382" name="PlaceHolder 3"/>
          <p:cNvSpPr>
            <a:spLocks noGrp="1"/>
          </p:cNvSpPr>
          <p:nvPr>
            <p:ph type="dt" idx="85"/>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01A8-2B01-4BF3-9E01-A648A147DE59}"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383" name="PlaceHolder 4"/>
          <p:cNvSpPr>
            <a:spLocks noGrp="1"/>
          </p:cNvSpPr>
          <p:nvPr>
            <p:ph type="ftr" idx="86"/>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PlaceHolder 5"/>
          <p:cNvSpPr>
            <a:spLocks noGrp="1"/>
          </p:cNvSpPr>
          <p:nvPr>
            <p:ph type="sldNum" idx="87"/>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F6CB-352A-4881-9C49-41F43DD87D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1"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793E-5608-4B4A-9F28-A817087C8A56}"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CCD0-E8DB-42F2-81C9-337C7B5ECC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4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429" name="PlaceHolder 3"/>
          <p:cNvSpPr>
            <a:spLocks noGrp="1"/>
          </p:cNvSpPr>
          <p:nvPr>
            <p:ph type="dt" idx="8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0E38-32AD-4382-B71B-359203FB2FE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430" name="PlaceHolder 4"/>
          <p:cNvSpPr>
            <a:spLocks noGrp="1"/>
          </p:cNvSpPr>
          <p:nvPr>
            <p:ph type="ftr" idx="8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5"/>
          <p:cNvSpPr>
            <a:spLocks noGrp="1"/>
          </p:cNvSpPr>
          <p:nvPr>
            <p:ph type="sldNum" idx="9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8C44-7EC8-4623-B48A-DAAB76830C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4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476" name="PlaceHolder 3"/>
          <p:cNvSpPr>
            <a:spLocks noGrp="1"/>
          </p:cNvSpPr>
          <p:nvPr>
            <p:ph type="dt" idx="9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F0BB-243F-49D3-8FF0-81136E287341}"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477" name="PlaceHolder 4"/>
          <p:cNvSpPr>
            <a:spLocks noGrp="1"/>
          </p:cNvSpPr>
          <p:nvPr>
            <p:ph type="ftr" idx="9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PlaceHolder 5"/>
          <p:cNvSpPr>
            <a:spLocks noGrp="1"/>
          </p:cNvSpPr>
          <p:nvPr>
            <p:ph type="sldNum" idx="9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95F0-FD9F-4C23-A4E6-C78CFCAF0D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5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23" name="PlaceHolder 3"/>
          <p:cNvSpPr>
            <a:spLocks noGrp="1"/>
          </p:cNvSpPr>
          <p:nvPr>
            <p:ph type="dt" idx="9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26C6-9731-460E-B7C8-3DF8FDE680C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524" name="PlaceHolder 4"/>
          <p:cNvSpPr>
            <a:spLocks noGrp="1"/>
          </p:cNvSpPr>
          <p:nvPr>
            <p:ph type="sldNum" idx="9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0D98-8D08-4230-BC60-4C94D9270E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5" name="PlaceHolder 5"/>
          <p:cNvSpPr>
            <a:spLocks noGrp="1"/>
          </p:cNvSpPr>
          <p:nvPr>
            <p:ph type="ftr" idx="9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5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70" name="PlaceHolder 3"/>
          <p:cNvSpPr>
            <a:spLocks noGrp="1"/>
          </p:cNvSpPr>
          <p:nvPr>
            <p:ph type="dt" idx="9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897F-A631-4BE4-AACA-B2D70FBC48AB}"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571" name="PlaceHolder 4"/>
          <p:cNvSpPr>
            <a:spLocks noGrp="1"/>
          </p:cNvSpPr>
          <p:nvPr>
            <p:ph type="ftr" idx="9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PlaceHolder 5"/>
          <p:cNvSpPr>
            <a:spLocks noGrp="1"/>
          </p:cNvSpPr>
          <p:nvPr>
            <p:ph type="sldNum" idx="9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6635-7061-4612-9477-6F37CB396A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6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18" name="PlaceHolder 3"/>
          <p:cNvSpPr>
            <a:spLocks noGrp="1"/>
          </p:cNvSpPr>
          <p:nvPr>
            <p:ph type="dt" idx="10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4572-891B-44A5-8D60-8EEF39B74C1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619" name="PlaceHolder 4"/>
          <p:cNvSpPr>
            <a:spLocks noGrp="1"/>
          </p:cNvSpPr>
          <p:nvPr>
            <p:ph type="sldNum" idx="10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7E43-3E99-456D-B979-E257660F2E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20" name="PlaceHolder 5"/>
          <p:cNvSpPr>
            <a:spLocks noGrp="1"/>
          </p:cNvSpPr>
          <p:nvPr>
            <p:ph type="ftr" idx="10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66" name="PlaceHolder 3"/>
          <p:cNvSpPr>
            <a:spLocks noGrp="1"/>
          </p:cNvSpPr>
          <p:nvPr>
            <p:ph type="dt" idx="10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6D4D-4753-416D-B3DC-C5BEDCA4D92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667" name="PlaceHolder 4"/>
          <p:cNvSpPr>
            <a:spLocks noGrp="1"/>
          </p:cNvSpPr>
          <p:nvPr>
            <p:ph type="sldNum" idx="10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C3AA-3377-48CE-99E2-6A5301B799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68" name="PlaceHolder 5"/>
          <p:cNvSpPr>
            <a:spLocks noGrp="1"/>
          </p:cNvSpPr>
          <p:nvPr>
            <p:ph type="ftr" idx="10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13" name="PlaceHolder 3"/>
          <p:cNvSpPr>
            <a:spLocks noGrp="1"/>
          </p:cNvSpPr>
          <p:nvPr>
            <p:ph type="dt" idx="10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D0EB-30D2-495B-B6A2-D8809CA82ED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714" name="PlaceHolder 4"/>
          <p:cNvSpPr>
            <a:spLocks noGrp="1"/>
          </p:cNvSpPr>
          <p:nvPr>
            <p:ph type="ftr" idx="10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PlaceHolder 5"/>
          <p:cNvSpPr>
            <a:spLocks noGrp="1"/>
          </p:cNvSpPr>
          <p:nvPr>
            <p:ph type="sldNum" idx="10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0FCB-7F49-4986-AC0E-CE7F12F63F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75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60" name="PlaceHolder 3"/>
          <p:cNvSpPr>
            <a:spLocks noGrp="1"/>
          </p:cNvSpPr>
          <p:nvPr>
            <p:ph type="dt" idx="10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7777-0019-4978-B478-B73C2F755E34}"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761" name="PlaceHolder 4"/>
          <p:cNvSpPr>
            <a:spLocks noGrp="1"/>
          </p:cNvSpPr>
          <p:nvPr>
            <p:ph type="ftr" idx="11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5"/>
          <p:cNvSpPr>
            <a:spLocks noGrp="1"/>
          </p:cNvSpPr>
          <p:nvPr>
            <p:ph type="sldNum" idx="1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5040-232F-43FC-AB8E-39555BE5D6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3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8"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AB46-035F-41F2-8FA5-69A9337A97C1}"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39"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63CB-3EB0-4AC5-8FDA-3634220D71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9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00" name="PlaceHolder 3"/>
          <p:cNvSpPr>
            <a:spLocks noGrp="1"/>
          </p:cNvSpPr>
          <p:nvPr>
            <p:ph type="dt" idx="13"/>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D99A-0365-4E89-BBC0-622D017C2444}"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0FDE-F9B9-4CFE-9CCA-29B3EB18E6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4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D948-215C-4D01-97AC-7C6755A895A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4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6861-7CCE-49B0-A63B-FE791802CE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86"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30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04" name="PlaceHolder 3"/>
          <p:cNvSpPr>
            <a:spLocks noGrp="1"/>
          </p:cNvSpPr>
          <p:nvPr>
            <p:ph type="dt" idx="19"/>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4688-D3DF-47BE-8BF8-F68701083A89}"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305" name="PlaceHolder 4"/>
          <p:cNvSpPr>
            <a:spLocks noGrp="1"/>
          </p:cNvSpPr>
          <p:nvPr>
            <p:ph type="ftr" idx="20"/>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E2E6-7B73-43CC-91F3-41E0EB9764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51"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F0E4-C9F6-4BDF-A7BF-E5D17F80D4A2}"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52"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C1CC-992C-431A-9508-BA373BB9A9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9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98"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D223-10B4-4D69-AABB-7B1405DBCE87}"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99" name="PlaceHolder 4"/>
          <p:cNvSpPr>
            <a:spLocks noGrp="1"/>
          </p:cNvSpPr>
          <p:nvPr>
            <p:ph type="ftr" idx="2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53B5-9B46-4DF3-B411-D33C7D3C9E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title"/>
          </p:nvPr>
        </p:nvSpPr>
        <p:spPr>
          <a:xfrm>
            <a:off x="2285640" y="3123720"/>
            <a:ext cx="6172200" cy="1893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Arial"/>
              </a:rPr>
              <a:t>ISO 26000</a:t>
            </a:r>
            <a:br>
              <a:rPr sz="3000"/>
            </a:br>
            <a:r>
              <a:rPr b="1" lang="ar-IQ" sz="3000" spc="-1" strike="noStrike">
                <a:solidFill>
                  <a:srgbClr val="575f6d"/>
                </a:solidFill>
                <a:latin typeface="Arial"/>
              </a:rPr>
              <a:t>المسؤوليه المجتمعيه</a:t>
            </a:r>
            <a:endParaRPr b="0" lang="en-US" sz="3000" spc="-1" strike="noStrike">
              <a:solidFill>
                <a:srgbClr val="575f6d"/>
              </a:solidFill>
              <a:latin typeface="Arial"/>
            </a:endParaRPr>
          </a:p>
        </p:txBody>
      </p:sp>
      <p:sp>
        <p:nvSpPr>
          <p:cNvPr id="180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575f6d"/>
                </a:solidFill>
                <a:latin typeface="Times New Roman"/>
              </a:rPr>
              <a:t>د. إحسان عبدالامير جاسم</a:t>
            </a:r>
            <a:endParaRPr b="0" lang="en-US" sz="18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575f6d"/>
                </a:solidFill>
                <a:latin typeface="Times New Roman"/>
              </a:rPr>
              <a:t>وزارة البيئة</a:t>
            </a:r>
            <a:endParaRPr b="0" lang="en-US" sz="1800" spc="-1" strike="noStrike">
              <a:solidFill>
                <a:srgbClr val="000000"/>
              </a:solidFill>
              <a:latin typeface="Times New Roman"/>
            </a:endParaRPr>
          </a:p>
        </p:txBody>
      </p:sp>
      <p:pic>
        <p:nvPicPr>
          <p:cNvPr id="1801" name="Picture 3" descr="https://encrypted-tbn3.google.com/images?q=tbn:ANd9GcTRSwi4cxNZnWY37z_ujsWyZTS6L3-4duY7CHz4LoGE2pyK0ch1"/>
          <p:cNvPicPr/>
          <p:nvPr/>
        </p:nvPicPr>
        <p:blipFill>
          <a:blip r:embed="rId1"/>
          <a:stretch/>
        </p:blipFill>
        <p:spPr>
          <a:xfrm>
            <a:off x="6172200" y="914400"/>
            <a:ext cx="2556000" cy="17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89000"/>
            <a:ext cx="8229600" cy="1079280"/>
          </a:xfrm>
          <a:prstGeom prst="rect">
            <a:avLst/>
          </a:prstGeom>
          <a:noFill/>
          <a:ln w="0">
            <a:noFill/>
          </a:ln>
        </p:spPr>
        <p:txBody>
          <a:bodyPr anchor="ctr">
            <a:noAutofit/>
          </a:bodyPr>
          <a:p>
            <a:pPr marL="743040" indent="-743040" algn="r" rtl="1">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 الشفافية</a:t>
            </a:r>
            <a:r>
              <a:rPr b="0" lang="ar-IQ" sz="3600" spc="-1" strike="noStrike">
                <a:solidFill>
                  <a:srgbClr val="ff0000"/>
                </a:solidFill>
                <a:latin typeface="Arial"/>
              </a:rPr>
              <a:t>     </a:t>
            </a:r>
            <a:r>
              <a:rPr b="0" lang="en-US" sz="3600" spc="-1" strike="noStrike">
                <a:solidFill>
                  <a:srgbClr val="ff0000"/>
                </a:solidFill>
                <a:latin typeface="Arial"/>
              </a:rPr>
              <a:t>Transparency</a:t>
            </a:r>
            <a:endParaRPr b="0" lang="en-US" sz="3600" spc="-1" strike="noStrike">
              <a:solidFill>
                <a:srgbClr val="000000"/>
              </a:solidFill>
              <a:latin typeface="Arial"/>
            </a:endParaRPr>
          </a:p>
        </p:txBody>
      </p:sp>
      <p:sp>
        <p:nvSpPr>
          <p:cNvPr id="1845" name=""/>
          <p:cNvSpPr txBox="1"/>
          <p:nvPr/>
        </p:nvSpPr>
        <p:spPr>
          <a:xfrm>
            <a:off x="457200" y="1125000"/>
            <a:ext cx="8229600" cy="528012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أن المنشأة ينبغي أن تتحلي بالشفافية في قراراتها</a:t>
            </a:r>
            <a:r>
              <a:rPr b="0" lang="ar-IQ" sz="3200" spc="-1" strike="noStrike">
                <a:solidFill>
                  <a:srgbClr val="0070c0"/>
                </a:solidFill>
                <a:latin typeface="Arial"/>
              </a:rPr>
              <a:t> </a:t>
            </a:r>
            <a:r>
              <a:rPr b="0" lang="ar-SA" sz="3200" spc="-1" strike="noStrike">
                <a:solidFill>
                  <a:srgbClr val="0070c0"/>
                </a:solidFill>
                <a:latin typeface="Arial"/>
              </a:rPr>
              <a:t>وأنشطتها التي تؤثر على المجتمع والبيئة</a:t>
            </a:r>
            <a:r>
              <a:rPr b="0" lang="en-US" sz="3200" spc="-1" strike="noStrike">
                <a:solidFill>
                  <a:srgbClr val="0070c0"/>
                </a:solidFill>
                <a:latin typeface="Arial"/>
              </a:rPr>
              <a:t>.</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بغي علي المنشأة أن تفصح على نحو واضح ودقيق وتام </a:t>
            </a:r>
            <a:r>
              <a:rPr b="0" lang="ar-EG" sz="3200" spc="-1" strike="noStrike">
                <a:solidFill>
                  <a:srgbClr val="000000"/>
                </a:solidFill>
                <a:latin typeface="Arial"/>
              </a:rPr>
              <a:t>وبدرجة معقولة ووافية  </a:t>
            </a:r>
            <a:r>
              <a:rPr b="0" lang="ar-SA" sz="3200" spc="-1" strike="noStrike">
                <a:solidFill>
                  <a:srgbClr val="000000"/>
                </a:solidFill>
                <a:latin typeface="Arial"/>
              </a:rPr>
              <a:t>عن سياستها وقراراتها وأنشطتها التي تكون مسئولة عنها بما في ذلك التأثيرات المعروفة والمحتملة على البيئة والمجتمع</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جب أن تكون هذه المعلومات متاحة ومفهومة ويمكن الوصول إليها مباشرة من قبل الأشخاص المتأثرين أو المحتمل تأثرهم بشكل جوهري من قبل المنشأة</a:t>
            </a:r>
            <a:r>
              <a:rPr b="0" lang="ar-IQ" sz="3200" spc="-1" strike="noStrike">
                <a:solidFill>
                  <a:srgbClr val="000000"/>
                </a:solidFill>
                <a:latin typeface="Arial"/>
              </a:rPr>
              <a:t>.</a:t>
            </a:r>
            <a:endParaRPr b="0" lang="en-US" sz="3200" spc="-1" strike="noStrike">
              <a:solidFill>
                <a:srgbClr val="000000"/>
              </a:solidFill>
              <a:latin typeface="Arial"/>
            </a:endParaRPr>
          </a:p>
        </p:txBody>
      </p:sp>
      <p:sp>
        <p:nvSpPr>
          <p:cNvPr id="1846"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E8CC-AA12-4FE2-9E0A-9B58A2AAA88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47"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A460-F7FE-424C-AEA0-AD618EFC93A0}"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9" name="Picture 2" descr="http://www.etftrends.com/wp-content/uploads/2012/02/mag.jpg"/>
          <p:cNvPicPr/>
          <p:nvPr/>
        </p:nvPicPr>
        <p:blipFill>
          <a:blip r:embed="rId1"/>
          <a:stretch/>
        </p:blipFill>
        <p:spPr>
          <a:xfrm>
            <a:off x="1979640" y="3813120"/>
            <a:ext cx="2097000" cy="2556000"/>
          </a:xfrm>
          <a:prstGeom prst="rect">
            <a:avLst/>
          </a:prstGeom>
          <a:ln w="0">
            <a:noFill/>
          </a:ln>
        </p:spPr>
      </p:pic>
      <p:sp>
        <p:nvSpPr>
          <p:cNvPr id="1850" name="PlaceHolder 1"/>
          <p:cNvSpPr>
            <a:spLocks noGrp="1"/>
          </p:cNvSpPr>
          <p:nvPr>
            <p:ph type="title"/>
          </p:nvPr>
        </p:nvSpPr>
        <p:spPr>
          <a:xfrm>
            <a:off x="468360" y="-2736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3600" spc="-1" strike="noStrike">
              <a:solidFill>
                <a:srgbClr val="0070c0"/>
              </a:solidFill>
              <a:latin typeface="Arial"/>
            </a:endParaRPr>
          </a:p>
        </p:txBody>
      </p:sp>
      <p:sp>
        <p:nvSpPr>
          <p:cNvPr id="1851" name=""/>
          <p:cNvSpPr txBox="1"/>
          <p:nvPr/>
        </p:nvSpPr>
        <p:spPr>
          <a:xfrm>
            <a:off x="457200" y="1052280"/>
            <a:ext cx="8229600" cy="53528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 تتطلب الشفافية إتاحة معلومات الملكية للعامة ولا تتطلب أيضا إتاحة المعلومات المحمية قانونيا أو تلك المعلومات التي تعد إتاحتها خرقا للالتزامات القانونية والتجارية والأمنية أو الخصوصية الشخصية</a:t>
            </a:r>
            <a:r>
              <a:rPr b="0" lang="en-US" sz="3600" spc="-1" strike="noStrike">
                <a:solidFill>
                  <a:srgbClr val="57a144"/>
                </a:solidFill>
                <a:latin typeface="Arial"/>
              </a:rPr>
              <a:t>.</a:t>
            </a:r>
            <a:endParaRPr b="0" lang="en-US" sz="3600" spc="-1" strike="noStrike">
              <a:solidFill>
                <a:srgbClr val="000000"/>
              </a:solidFill>
              <a:latin typeface="Arial"/>
            </a:endParaRPr>
          </a:p>
        </p:txBody>
      </p:sp>
      <p:sp>
        <p:nvSpPr>
          <p:cNvPr id="1852" name="عنصر نائب للتاريخ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763F-A2A3-4FB3-B155-0E426C9D2B7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53"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66FA-5BF7-4B55-8E0C-4AD06620A948}"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4" name="Picture 6" descr="http://www.roche.com/static/app/annual_report_2011/_data/assets/images/highlights/figures-visual-large.jpg"/>
          <p:cNvPicPr/>
          <p:nvPr/>
        </p:nvPicPr>
        <p:blipFill>
          <a:blip r:embed="rId2"/>
          <a:stretch/>
        </p:blipFill>
        <p:spPr>
          <a:xfrm>
            <a:off x="4356000" y="4051440"/>
            <a:ext cx="2448000" cy="1828800"/>
          </a:xfrm>
          <a:prstGeom prst="rect">
            <a:avLst/>
          </a:prstGeom>
          <a:ln w="0">
            <a:noFill/>
          </a:ln>
        </p:spPr>
      </p:pic>
      <p:sp>
        <p:nvSpPr>
          <p:cNvPr id="185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59920"/>
            <a:ext cx="8229600" cy="1081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وينبغي أن تتحلي المنشأة بالشفافية فيما يلي</a:t>
            </a:r>
            <a:endParaRPr b="0" lang="en-US" sz="3200" spc="-1" strike="noStrike">
              <a:solidFill>
                <a:srgbClr val="000000"/>
              </a:solidFill>
              <a:latin typeface="Arial"/>
            </a:endParaRPr>
          </a:p>
        </p:txBody>
      </p:sp>
      <p:sp>
        <p:nvSpPr>
          <p:cNvPr id="1857" name=""/>
          <p:cNvSpPr txBox="1"/>
          <p:nvPr/>
        </p:nvSpPr>
        <p:spPr>
          <a:xfrm>
            <a:off x="457200" y="1413000"/>
            <a:ext cx="8229600" cy="4992480"/>
          </a:xfrm>
          <a:prstGeom prst="rect">
            <a:avLst/>
          </a:prstGeom>
          <a:noFill/>
          <a:ln w="0">
            <a:noFill/>
          </a:ln>
        </p:spPr>
        <p:txBody>
          <a:bodyPr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دف وطبيعة ومكان ممارسة أنشطتها</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أي مصلحة متحكمة في نشاط المنشأ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لوك الذي تتخذ وتطبق وتراجع من خلاله قراراتها بما في ذلك تحديد الأدوار والمسؤوليات  </a:t>
            </a:r>
            <a:r>
              <a:rPr b="0" lang="ar-IQ" sz="2400" spc="-1" strike="noStrike">
                <a:solidFill>
                  <a:srgbClr val="000000"/>
                </a:solidFill>
                <a:latin typeface="Arial"/>
              </a:rPr>
              <a:t>و</a:t>
            </a:r>
            <a:r>
              <a:rPr b="0" lang="ar-SA" sz="2400" spc="-1" strike="noStrike">
                <a:solidFill>
                  <a:srgbClr val="000000"/>
                </a:solidFill>
                <a:latin typeface="Arial"/>
              </a:rPr>
              <a:t>المسائلات والسلطات فيما يتعلق بالوظائف المختلفة داخل المنشأ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صفات والمعايير التي تقيم المنشأة على أساسها أدائها المتعلق بالمسؤولية المجتمع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دائها بشأن القضايا الهامة ذات الصلة بالمسئولية المجتمع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صدر مواردها المال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أثيرات المعروفة والمحتملة لقراراتها وأنشطتها على</a:t>
            </a:r>
            <a:r>
              <a:rPr b="0" lang="ar-IQ" sz="2400" spc="-1" strike="noStrike">
                <a:solidFill>
                  <a:srgbClr val="000000"/>
                </a:solidFill>
                <a:latin typeface="Arial"/>
              </a:rPr>
              <a:t> </a:t>
            </a:r>
            <a:r>
              <a:rPr b="0" lang="ar-EG" sz="2400" spc="-1" strike="noStrike">
                <a:solidFill>
                  <a:srgbClr val="000000"/>
                </a:solidFill>
                <a:latin typeface="Arial"/>
              </a:rPr>
              <a:t>أطرافها المعنية </a:t>
            </a:r>
            <a:r>
              <a:rPr b="0" lang="ar-IQ" sz="2400" spc="-1" strike="noStrike">
                <a:solidFill>
                  <a:srgbClr val="000000"/>
                </a:solidFill>
                <a:latin typeface="Arial"/>
              </a:rPr>
              <a:t>و</a:t>
            </a:r>
            <a:r>
              <a:rPr b="0" lang="ar-SA" sz="2400" spc="-1" strike="noStrike">
                <a:solidFill>
                  <a:srgbClr val="000000"/>
                </a:solidFill>
                <a:latin typeface="Arial"/>
              </a:rPr>
              <a:t>المجتمع والبيئ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الأطراف المعنية والمعايير والإجراءات المستخدمة لتحديدهم واختيارهم وإشراكهم</a:t>
            </a:r>
            <a:endParaRPr b="0" lang="en-US" sz="2400" spc="-1" strike="noStrike">
              <a:solidFill>
                <a:srgbClr val="000000"/>
              </a:solidFill>
              <a:latin typeface="Arial"/>
            </a:endParaRPr>
          </a:p>
        </p:txBody>
      </p:sp>
      <p:sp>
        <p:nvSpPr>
          <p:cNvPr id="1858"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001B-2118-4B4B-9261-99802260041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59"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5ADB-A141-4597-B4E6-6375B6FBA4C7}"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0" name="Picture 2" descr="https://encrypted-tbn0.google.com/images?q=tbn:ANd9GcTRX_z4m1_vZ4aFKE-v6hPAiYJozSbiwRK2SY-f74Drbfgq3Udr"/>
          <p:cNvPicPr/>
          <p:nvPr/>
        </p:nvPicPr>
        <p:blipFill>
          <a:blip r:embed="rId1"/>
          <a:stretch/>
        </p:blipFill>
        <p:spPr>
          <a:xfrm>
            <a:off x="108000" y="115920"/>
            <a:ext cx="2573280" cy="1508040"/>
          </a:xfrm>
          <a:prstGeom prst="rect">
            <a:avLst/>
          </a:prstGeom>
          <a:ln w="0">
            <a:noFill/>
          </a:ln>
        </p:spPr>
      </p:pic>
      <p:sp>
        <p:nvSpPr>
          <p:cNvPr id="186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55368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سلوك الأخلاقي</a:t>
            </a:r>
            <a:r>
              <a:rPr b="0" lang="ar-IQ" sz="3200" spc="-1" strike="noStrike">
                <a:solidFill>
                  <a:srgbClr val="ff0000"/>
                </a:solidFill>
                <a:latin typeface="Arial"/>
              </a:rPr>
              <a:t> </a:t>
            </a:r>
            <a:r>
              <a:rPr b="0" lang="en-US" sz="3200" spc="-1" strike="noStrike">
                <a:solidFill>
                  <a:srgbClr val="ff0000"/>
                </a:solidFill>
                <a:latin typeface="Arial"/>
              </a:rPr>
              <a:t>Ethical behavior</a:t>
            </a:r>
            <a:endParaRPr b="0" lang="en-US" sz="3200" spc="-1" strike="noStrike">
              <a:solidFill>
                <a:srgbClr val="000000"/>
              </a:solidFill>
              <a:latin typeface="Arial"/>
            </a:endParaRPr>
          </a:p>
        </p:txBody>
      </p:sp>
      <p:sp>
        <p:nvSpPr>
          <p:cNvPr id="1863" name=""/>
          <p:cNvSpPr txBox="1"/>
          <p:nvPr/>
        </p:nvSpPr>
        <p:spPr>
          <a:xfrm>
            <a:off x="457200" y="187956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70c0"/>
                </a:solidFill>
                <a:latin typeface="Arial"/>
              </a:rPr>
              <a:t>أن تتصرف المنشأة بشكل أخلاقي في جميع الأوق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بغي أن يبني سلوك المنشأة على أخلاقيات الأمانة والعدل والتكامل وذلك فيما يتعلق بالأشخاص والحيوانات </a:t>
            </a:r>
            <a:r>
              <a:rPr b="0" lang="ar-SA" sz="3200" spc="-1" strike="noStrike">
                <a:solidFill>
                  <a:srgbClr val="ff0000"/>
                </a:solidFill>
                <a:latin typeface="Arial"/>
              </a:rPr>
              <a:t>والبيئة </a:t>
            </a:r>
            <a:r>
              <a:rPr b="0" lang="ar-SA" sz="3200" spc="-1" strike="noStrike">
                <a:solidFill>
                  <a:srgbClr val="000000"/>
                </a:solidFill>
                <a:latin typeface="Arial"/>
              </a:rPr>
              <a:t>والالتزام بتناول مصالح الأطراف المعنية.</a:t>
            </a:r>
            <a:endParaRPr b="0" lang="en-US" sz="3200" spc="-1" strike="noStrike">
              <a:solidFill>
                <a:srgbClr val="000000"/>
              </a:solidFill>
              <a:latin typeface="Arial"/>
            </a:endParaRPr>
          </a:p>
        </p:txBody>
      </p:sp>
      <p:sp>
        <p:nvSpPr>
          <p:cNvPr id="186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6F68-8EED-43E2-B1EC-2BD9AF58B8C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65"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B7FE-5988-41FF-9F4A-C5A1193E4882}"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6" name="Picture 2" descr="http://www.engagediamonds.com/images/000/000/000000441.jpg/transparency-banner3.jpg"/>
          <p:cNvPicPr/>
          <p:nvPr/>
        </p:nvPicPr>
        <p:blipFill>
          <a:blip r:embed="rId1"/>
          <a:stretch/>
        </p:blipFill>
        <p:spPr>
          <a:xfrm>
            <a:off x="179280" y="4676760"/>
            <a:ext cx="3024360" cy="1619280"/>
          </a:xfrm>
          <a:prstGeom prst="rect">
            <a:avLst/>
          </a:prstGeom>
          <a:ln w="0">
            <a:noFill/>
          </a:ln>
        </p:spPr>
      </p:pic>
      <p:sp>
        <p:nvSpPr>
          <p:cNvPr id="186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468360" y="260280"/>
            <a:ext cx="8229600" cy="85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ينبغي على المنشأة أن تعمل بشكل فعال على تعزيز السلوك الأخلاقي بواسطة:</a:t>
            </a:r>
            <a:endParaRPr b="0" lang="en-US" sz="2800" spc="-1" strike="noStrike">
              <a:solidFill>
                <a:srgbClr val="000000"/>
              </a:solidFill>
              <a:latin typeface="Arial"/>
            </a:endParaRPr>
          </a:p>
        </p:txBody>
      </p:sp>
      <p:sp>
        <p:nvSpPr>
          <p:cNvPr id="1869" name=""/>
          <p:cNvSpPr txBox="1"/>
          <p:nvPr/>
        </p:nvSpPr>
        <p:spPr>
          <a:xfrm>
            <a:off x="457200" y="1268280"/>
            <a:ext cx="8229600" cy="5137200"/>
          </a:xfrm>
          <a:prstGeom prst="rect">
            <a:avLst/>
          </a:prstGeom>
          <a:noFill/>
          <a:ln w="0">
            <a:noFill/>
          </a:ln>
        </p:spPr>
        <p:txBody>
          <a:bodyPr anchor="t">
            <a:normAutofit fontScale="93000"/>
          </a:bodyPr>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وتحديد قيمها ومبادئها الجوهرية</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هياكل حوكمية تساعد علي تعزيز السلوك الأخلاقي داخل المنشاة وفي تفاعلاتها مع الآخرين.</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ديد وتبني وتطبيق معايير السلوك الأخلاقية التي تتلاءم مع غرضها وأنشطتها على نحو يتلاءم مع المبادئ الموضحة في هذه المواصفة الدولية.</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شجيع وتعزيز الإلتزام</a:t>
            </a:r>
            <a:r>
              <a:rPr b="0" lang="ar-IQ" sz="2800" spc="-1" strike="noStrike">
                <a:solidFill>
                  <a:srgbClr val="000000"/>
                </a:solidFill>
                <a:latin typeface="Arial"/>
              </a:rPr>
              <a:t> </a:t>
            </a:r>
            <a:r>
              <a:rPr b="0" lang="ar-SA" sz="2800" spc="-1" strike="noStrike">
                <a:solidFill>
                  <a:srgbClr val="000000"/>
                </a:solidFill>
                <a:latin typeface="Arial"/>
              </a:rPr>
              <a:t> معايير السلوك الأخلاقي الخاص بها</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ديد معايير السلوك الأخلاقي المتوقعة من هيكلها الحوكم</a:t>
            </a:r>
            <a:r>
              <a:rPr b="0" lang="ar-IQ" sz="2800" spc="-1" strike="noStrike">
                <a:solidFill>
                  <a:srgbClr val="000000"/>
                </a:solidFill>
                <a:latin typeface="Arial"/>
              </a:rPr>
              <a:t>ي</a:t>
            </a:r>
            <a:r>
              <a:rPr b="0" lang="ar-SA" sz="2800" spc="-1" strike="noStrike">
                <a:solidFill>
                  <a:srgbClr val="000000"/>
                </a:solidFill>
                <a:latin typeface="Arial"/>
              </a:rPr>
              <a:t> وموظفيها ومورديها والمتعاقدين ومن الملاك والمديرين- إذا أمكن ذلك - خاصة هؤلاء الذي يكون لهم تأثير كبير على قيم وثقافات وتكامل وإستراتيجية وتشغيل المنشأة والعاملين بالنيابة عنها مع الحفاظ على الهوية الثقافية المحلية.</a:t>
            </a:r>
            <a:endParaRPr b="0" lang="en-US" sz="2800" spc="-1" strike="noStrike">
              <a:solidFill>
                <a:srgbClr val="000000"/>
              </a:solidFill>
              <a:latin typeface="Arial"/>
            </a:endParaRPr>
          </a:p>
        </p:txBody>
      </p:sp>
      <p:sp>
        <p:nvSpPr>
          <p:cNvPr id="1870"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7AD5-4CC9-4FEA-B7E7-9EFE00070C5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71"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DA6D-C88D-45B3-A9C4-12010FD889B2}"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ينبغي على المنشأة أن تعمل بشكل فعال على تعزيز السلوك الأخلاقي بواسطة</a:t>
            </a:r>
            <a:r>
              <a:rPr b="0" lang="ar-SA" sz="2800" spc="-1" strike="noStrike">
                <a:solidFill>
                  <a:srgbClr val="0070c0"/>
                </a:solidFill>
                <a:latin typeface="Arial"/>
              </a:rPr>
              <a:t>:</a:t>
            </a:r>
            <a:endParaRPr b="0" lang="en-US" sz="2800" spc="-1" strike="noStrike">
              <a:solidFill>
                <a:srgbClr val="000000"/>
              </a:solidFill>
              <a:latin typeface="Arial"/>
            </a:endParaRPr>
          </a:p>
        </p:txBody>
      </p:sp>
      <p:sp>
        <p:nvSpPr>
          <p:cNvPr id="1874" name=""/>
          <p:cNvSpPr txBox="1"/>
          <p:nvPr/>
        </p:nvSpPr>
        <p:spPr>
          <a:xfrm>
            <a:off x="457200" y="1268280"/>
            <a:ext cx="8229600" cy="5137200"/>
          </a:xfrm>
          <a:prstGeom prst="rect">
            <a:avLst/>
          </a:prstGeom>
          <a:noFill/>
          <a:ln w="0">
            <a:noFill/>
          </a:ln>
        </p:spPr>
        <p:txBody>
          <a:bodyPr anchor="t">
            <a:normAutofit fontScale="95000"/>
          </a:bodyPr>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ع حدوث أي تضار</a:t>
            </a:r>
            <a:r>
              <a:rPr b="0" lang="ar-EG" sz="2800" spc="-1" strike="noStrike">
                <a:solidFill>
                  <a:srgbClr val="000000"/>
                </a:solidFill>
                <a:latin typeface="Arial"/>
              </a:rPr>
              <a:t>ب</a:t>
            </a:r>
            <a:r>
              <a:rPr b="0" lang="en-US" sz="2800" spc="-1" strike="noStrike">
                <a:solidFill>
                  <a:srgbClr val="000000"/>
                </a:solidFill>
                <a:latin typeface="Arial"/>
              </a:rPr>
              <a:t>  </a:t>
            </a:r>
            <a:r>
              <a:rPr b="0" lang="ar-EG" sz="2800" spc="-1" strike="noStrike">
                <a:solidFill>
                  <a:srgbClr val="000000"/>
                </a:solidFill>
                <a:latin typeface="Arial"/>
              </a:rPr>
              <a:t>أو تسوية </a:t>
            </a:r>
            <a:r>
              <a:rPr b="0" lang="ar-SA" sz="2800" spc="-1" strike="noStrike">
                <a:solidFill>
                  <a:srgbClr val="000000"/>
                </a:solidFill>
                <a:latin typeface="Arial"/>
              </a:rPr>
              <a:t>في المصالح عبر المنشأة من ش</a:t>
            </a:r>
            <a:r>
              <a:rPr b="0" lang="ar-IQ" sz="2800" spc="-1" strike="noStrike">
                <a:solidFill>
                  <a:srgbClr val="000000"/>
                </a:solidFill>
                <a:latin typeface="Arial"/>
              </a:rPr>
              <a:t>أ</a:t>
            </a:r>
            <a:r>
              <a:rPr b="0" lang="ar-SA" sz="2800" spc="-1" strike="noStrike">
                <a:solidFill>
                  <a:srgbClr val="000000"/>
                </a:solidFill>
                <a:latin typeface="Arial"/>
              </a:rPr>
              <a:t>نه إحداث سلوكا</a:t>
            </a:r>
            <a:r>
              <a:rPr b="0" lang="ar-IQ" sz="2800" spc="-1" strike="noStrike">
                <a:solidFill>
                  <a:srgbClr val="000000"/>
                </a:solidFill>
                <a:latin typeface="Arial"/>
              </a:rPr>
              <a:t>ً</a:t>
            </a:r>
            <a:r>
              <a:rPr b="0" lang="ar-SA" sz="2800" spc="-1" strike="noStrike">
                <a:solidFill>
                  <a:srgbClr val="000000"/>
                </a:solidFill>
                <a:latin typeface="Arial"/>
              </a:rPr>
              <a:t> غير أخلاقي.</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شاء آليات رقابية لمراقبة وتطبيق السلوك الأخلاقي</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شاء آليات لتسهيل عملية تقديم التقارير حول المخالفات الخاصة بالسلوك الأخلاقي دون خوف من انتقام</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وتناول المواقف التي تغيب فيها القوانين واللوائح المحلية أو تتعارض مع السلوك الأخلاقي</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بني وتطبيق المعايير المعترف بها دولياً للسلوك الأخلاقي عند إجراء بحث الموضوعات البشري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حترام رفاهية الحيوانات عندما تؤثر على حياتهم وبقائهم من خلال ضمان توافر ظروف مناسبة لإبقاء وتربية وتوالد واستخدام الحيوانات.</a:t>
            </a:r>
            <a:endParaRPr b="0" lang="en-US" sz="2800" spc="-1" strike="noStrike">
              <a:solidFill>
                <a:srgbClr val="000000"/>
              </a:solidFill>
              <a:latin typeface="Arial"/>
            </a:endParaRPr>
          </a:p>
        </p:txBody>
      </p:sp>
      <p:sp>
        <p:nvSpPr>
          <p:cNvPr id="1875"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79FA-8AA9-4B75-8042-DF922CDD656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76"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DC7-0803-4630-A91B-BBEBADC030D1}"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500040" y="260280"/>
            <a:ext cx="8229600" cy="1152720"/>
          </a:xfrm>
          <a:prstGeom prst="rect">
            <a:avLst/>
          </a:prstGeom>
          <a:noFill/>
          <a:ln w="0">
            <a:noFill/>
          </a:ln>
        </p:spPr>
        <p:txBody>
          <a:bodyPr anchor="ctr">
            <a:noAutofit/>
          </a:bodyPr>
          <a:p>
            <a:pPr marL="514440" indent="-514440" algn="r" rtl="1">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مصالح الأطراف المعنية</a:t>
            </a:r>
            <a:br>
              <a:rPr sz="3200"/>
            </a:br>
            <a:r>
              <a:rPr b="0" lang="ar-SA" sz="3200" spc="-1" strike="noStrike">
                <a:solidFill>
                  <a:srgbClr val="ff0000"/>
                </a:solidFill>
                <a:latin typeface="Arial"/>
              </a:rPr>
              <a:t> </a:t>
            </a:r>
            <a:r>
              <a:rPr b="0" lang="en-US" sz="3200" spc="-1" strike="noStrike">
                <a:solidFill>
                  <a:srgbClr val="ff0000"/>
                </a:solidFill>
                <a:latin typeface="Arial"/>
              </a:rPr>
              <a:t>Respect for stakeholder interests</a:t>
            </a:r>
            <a:endParaRPr b="0" lang="en-US" sz="3200" spc="-1" strike="noStrike">
              <a:solidFill>
                <a:srgbClr val="000000"/>
              </a:solidFill>
              <a:latin typeface="Arial"/>
            </a:endParaRPr>
          </a:p>
        </p:txBody>
      </p:sp>
      <p:sp>
        <p:nvSpPr>
          <p:cNvPr id="1879" name=""/>
          <p:cNvSpPr txBox="1"/>
          <p:nvPr/>
        </p:nvSpPr>
        <p:spPr>
          <a:xfrm>
            <a:off x="457200" y="1557000"/>
            <a:ext cx="8229600" cy="4848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المبدأ أن تحترم المنشأة وتضع في اعتبارها وتتجاوب مع مصالح أطرافها المعنية</a:t>
            </a:r>
            <a:r>
              <a:rPr b="0" lang="en-US" sz="3200" spc="-1" strike="noStrike">
                <a:solidFill>
                  <a:srgbClr val="0070c0"/>
                </a:solidFill>
                <a:latin typeface="Arial"/>
              </a:rPr>
              <a:t>.</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الرغم من أن أهداف المنشأة قد تكون مقصورة على مصالح مالكيها أو أعضائها أو عملائها أو عناصرها الأساسية، إلا أن الأفراد </a:t>
            </a:r>
            <a:r>
              <a:rPr b="0" lang="ar-EG" sz="3200" spc="-1" strike="noStrike">
                <a:solidFill>
                  <a:srgbClr val="000000"/>
                </a:solidFill>
                <a:latin typeface="Arial"/>
              </a:rPr>
              <a:t>أ</a:t>
            </a:r>
            <a:r>
              <a:rPr b="0" lang="ar-SA" sz="3200" spc="-1" strike="noStrike">
                <a:solidFill>
                  <a:srgbClr val="000000"/>
                </a:solidFill>
                <a:latin typeface="Arial"/>
              </a:rPr>
              <a:t>والجماعات الأخرى يجوز أيضا أن يكون لهم حقوق ومطالبات أو</a:t>
            </a:r>
            <a:r>
              <a:rPr b="0" lang="ar-IQ" sz="3200" spc="-1" strike="noStrike">
                <a:solidFill>
                  <a:srgbClr val="000000"/>
                </a:solidFill>
                <a:latin typeface="Arial"/>
              </a:rPr>
              <a:t> </a:t>
            </a:r>
            <a:r>
              <a:rPr b="0" lang="ar-SA" sz="3200" spc="-1" strike="noStrike">
                <a:solidFill>
                  <a:srgbClr val="000000"/>
                </a:solidFill>
                <a:latin typeface="Arial"/>
              </a:rPr>
              <a:t>مصالح معينه </a:t>
            </a:r>
            <a:r>
              <a:rPr b="0" lang="ar-EG" sz="3200" spc="-1" strike="noStrike">
                <a:solidFill>
                  <a:srgbClr val="000000"/>
                </a:solidFill>
                <a:latin typeface="Arial"/>
              </a:rPr>
              <a:t>التي </a:t>
            </a:r>
            <a:r>
              <a:rPr b="0" lang="ar-SA" sz="3200" spc="-1" strike="noStrike">
                <a:solidFill>
                  <a:srgbClr val="000000"/>
                </a:solidFill>
                <a:latin typeface="Arial"/>
              </a:rPr>
              <a:t>ينبغي أن تؤخذ في الاعتبار، هؤلاء الأفراد </a:t>
            </a:r>
            <a:r>
              <a:rPr b="0" lang="ar-EG" sz="3200" spc="-1" strike="noStrike">
                <a:solidFill>
                  <a:srgbClr val="000000"/>
                </a:solidFill>
                <a:latin typeface="Arial"/>
              </a:rPr>
              <a:t>أ</a:t>
            </a:r>
            <a:r>
              <a:rPr b="0" lang="ar-SA" sz="3200" spc="-1" strike="noStrike">
                <a:solidFill>
                  <a:srgbClr val="000000"/>
                </a:solidFill>
                <a:latin typeface="Arial"/>
              </a:rPr>
              <a:t>والمجموعات يشكلون سويا الأطراف المعنية للمنشأة</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80"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16EC-5E45-4942-9557-71A988D27CC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81"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D7F3-8484-40A8-AEAF-5D8DC427F3EF}"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ينبغي أن تقوم المنشأة بما يلي</a:t>
            </a:r>
            <a:r>
              <a:rPr b="0" lang="en-US" sz="3200" spc="-1" strike="noStrike">
                <a:solidFill>
                  <a:srgbClr val="0070c0"/>
                </a:solidFill>
                <a:latin typeface="Arial"/>
              </a:rPr>
              <a:t>:</a:t>
            </a:r>
            <a:endParaRPr b="0" lang="en-US" sz="3200" spc="-1" strike="noStrike">
              <a:solidFill>
                <a:srgbClr val="000000"/>
              </a:solidFill>
              <a:latin typeface="Arial"/>
            </a:endParaRPr>
          </a:p>
        </p:txBody>
      </p:sp>
      <p:sp>
        <p:nvSpPr>
          <p:cNvPr id="1884" name=""/>
          <p:cNvSpPr txBox="1"/>
          <p:nvPr/>
        </p:nvSpPr>
        <p:spPr>
          <a:xfrm>
            <a:off x="457200" y="1413000"/>
            <a:ext cx="8229600" cy="4992480"/>
          </a:xfrm>
          <a:prstGeom prst="rect">
            <a:avLst/>
          </a:prstGeom>
          <a:noFill/>
          <a:ln w="0">
            <a:noFill/>
          </a:ln>
        </p:spPr>
        <p:txBody>
          <a:bodyPr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حدد أطرافها المعني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كون على دراية بمصالح واهتمامات أطرافها المعنية وان تحترم هذه المصالح وان تتجاوب مع اهتماماتهم المعلن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عترف بالحقوق القانونية والمصالح الشرعية لأطرافها المعني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درك أنه يمكن لبعض الأطراف المعنية أن تؤثر بشكل كبير على أنشطة 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قيم وتأخذ في الاعتبار لقدرة الأطراف المعنية النسبية للاتصال والمشاركة مع والتأثير على 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ضع في الاعتبار العلاقة بين مصالح الأطراف المعنية والتوقعات الأكبر للمجتمع والتنمية المستدامة بالإضافة إلي طبيعة علاقة الأطراف المعنية ب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ضع في اعتبارها الرؤى الخاصة بالأطراف المعنية التي قد تتأثر بقرار ما، حتى لو لم يكن لهم دورا رسميا في حوكمة المنشاة أو لم يكونوا على دراية بمصلحتهم في قرارات أو</a:t>
            </a:r>
            <a:r>
              <a:rPr b="0" lang="ar-IQ" sz="2400" spc="-1" strike="noStrike">
                <a:solidFill>
                  <a:srgbClr val="000000"/>
                </a:solidFill>
                <a:latin typeface="Arial"/>
              </a:rPr>
              <a:t> </a:t>
            </a:r>
            <a:r>
              <a:rPr b="0" lang="ar-SA" sz="2400" spc="-1" strike="noStrike">
                <a:solidFill>
                  <a:srgbClr val="000000"/>
                </a:solidFill>
                <a:latin typeface="Arial"/>
              </a:rPr>
              <a:t>أنشطة المنشأة</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85"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0386-D4BA-42AC-98A5-D5683DD8AB7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86"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2D3E-B702-4A17-B175-E48A0AA4F650}"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7" name="Picture 2" descr="https://encrypted-tbn2.google.com/images?q=tbn:ANd9GcSyuS2c3yCEbFKZuYAPc0hvXPZqVqGTs3rRFDIF5zuiwlS_aHbw"/>
          <p:cNvPicPr/>
          <p:nvPr/>
        </p:nvPicPr>
        <p:blipFill>
          <a:blip r:embed="rId1"/>
          <a:stretch/>
        </p:blipFill>
        <p:spPr>
          <a:xfrm>
            <a:off x="179280" y="165240"/>
            <a:ext cx="3705480" cy="1650960"/>
          </a:xfrm>
          <a:prstGeom prst="rect">
            <a:avLst/>
          </a:prstGeom>
          <a:ln w="0">
            <a:noFill/>
          </a:ln>
        </p:spPr>
      </p:pic>
      <p:sp>
        <p:nvSpPr>
          <p:cNvPr id="188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500040" y="57132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سيادة القانون</a:t>
            </a:r>
            <a:br>
              <a:rPr sz="3200"/>
            </a:br>
            <a:r>
              <a:rPr b="0" lang="ar-SA" sz="3200" spc="-1" strike="noStrike">
                <a:solidFill>
                  <a:srgbClr val="ff0000"/>
                </a:solidFill>
                <a:latin typeface="Arial"/>
              </a:rPr>
              <a:t> </a:t>
            </a:r>
            <a:r>
              <a:rPr b="0" lang="en-US" sz="3200" spc="-1" strike="noStrike">
                <a:solidFill>
                  <a:srgbClr val="ff0000"/>
                </a:solidFill>
                <a:latin typeface="Arial"/>
              </a:rPr>
              <a:t>Respect for the rule of law</a:t>
            </a:r>
            <a:endParaRPr b="0" lang="en-US" sz="3200" spc="-1" strike="noStrike">
              <a:solidFill>
                <a:srgbClr val="000000"/>
              </a:solidFill>
              <a:latin typeface="Arial"/>
            </a:endParaRPr>
          </a:p>
        </p:txBody>
      </p:sp>
      <p:sp>
        <p:nvSpPr>
          <p:cNvPr id="1890" name=""/>
          <p:cNvSpPr txBox="1"/>
          <p:nvPr/>
        </p:nvSpPr>
        <p:spPr>
          <a:xfrm>
            <a:off x="457200" y="187956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rPr>
              <a:t>أن المنشأة ينبغي أن توافق على احترامها لسيادة القانون بشكل إلزامي</a:t>
            </a:r>
            <a:r>
              <a:rPr b="0" lang="en-US" sz="3600" spc="-1" strike="noStrike">
                <a:solidFill>
                  <a:srgbClr val="0070c0"/>
                </a:solidFill>
                <a:latin typeface="Arial"/>
              </a:rPr>
              <a:t>.</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سيادة القانون هيمنته بحيث أنه لا يحق لأي فرد أو منشأة أن يكون فوق القانون الذي</a:t>
            </a:r>
            <a:r>
              <a:rPr b="0" lang="ar-IQ" sz="3600" spc="-1" strike="noStrike">
                <a:solidFill>
                  <a:srgbClr val="000000"/>
                </a:solidFill>
                <a:latin typeface="Arial"/>
              </a:rPr>
              <a:t> </a:t>
            </a:r>
            <a:r>
              <a:rPr b="0" lang="ar-SA" sz="3600" spc="-1" strike="noStrike">
                <a:solidFill>
                  <a:srgbClr val="000000"/>
                </a:solidFill>
                <a:latin typeface="Arial"/>
              </a:rPr>
              <a:t>تخضع له الحكومة </a:t>
            </a:r>
            <a:r>
              <a:rPr b="0" lang="ar-EG" sz="3600" spc="-1" strike="noStrike">
                <a:solidFill>
                  <a:srgbClr val="000000"/>
                </a:solidFill>
                <a:latin typeface="Arial"/>
              </a:rPr>
              <a:t>أيضا.</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حترام سيادة القانون يعني أن تنصاع المنشأة لكافة القوانين والقواعد المطبقة</a:t>
            </a:r>
            <a:endParaRPr b="0" lang="en-US" sz="3600" spc="-1" strike="noStrike">
              <a:solidFill>
                <a:srgbClr val="000000"/>
              </a:solidFill>
              <a:latin typeface="Arial"/>
            </a:endParaRPr>
          </a:p>
        </p:txBody>
      </p:sp>
      <p:sp>
        <p:nvSpPr>
          <p:cNvPr id="1891"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E117-BBF5-4341-A09D-96C222B54A2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92"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6585-4EBF-4789-8904-54DFD800619C}"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3" name="Picture 2" descr="https://encrypted-tbn2.google.com/images?q=tbn:ANd9GcR2icrhWcoWFc2jGFW8vuyZnJJRdtd4TuPrWvkXHCDS7VRK0PaGfQ"/>
          <p:cNvPicPr/>
          <p:nvPr/>
        </p:nvPicPr>
        <p:blipFill>
          <a:blip r:embed="rId1"/>
          <a:stretch/>
        </p:blipFill>
        <p:spPr>
          <a:xfrm>
            <a:off x="755640" y="357120"/>
            <a:ext cx="1584360" cy="1581120"/>
          </a:xfrm>
          <a:prstGeom prst="rect">
            <a:avLst/>
          </a:prstGeom>
          <a:ln w="0">
            <a:noFill/>
          </a:ln>
        </p:spPr>
      </p:pic>
      <p:sp>
        <p:nvSpPr>
          <p:cNvPr id="189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55368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70c0"/>
                </a:solidFill>
                <a:latin typeface="Arial"/>
              </a:rPr>
              <a:t>ينبغي أن تقوم المنشأة بما يلي</a:t>
            </a:r>
            <a:r>
              <a:rPr b="0" lang="ar-IQ" sz="3300" spc="-1" strike="noStrike">
                <a:solidFill>
                  <a:srgbClr val="0070c0"/>
                </a:solidFill>
                <a:latin typeface="Arial"/>
              </a:rPr>
              <a:t>:</a:t>
            </a:r>
            <a:endParaRPr b="0" lang="en-US" sz="3300" spc="-1" strike="noStrike">
              <a:solidFill>
                <a:srgbClr val="000000"/>
              </a:solidFill>
              <a:latin typeface="Arial"/>
            </a:endParaRPr>
          </a:p>
        </p:txBody>
      </p:sp>
      <p:sp>
        <p:nvSpPr>
          <p:cNvPr id="1896" name=""/>
          <p:cNvSpPr txBox="1"/>
          <p:nvPr/>
        </p:nvSpPr>
        <p:spPr>
          <a:xfrm>
            <a:off x="457200" y="187956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ذعان للشروط القانونية داخل الاختصاصات القضائية التي</a:t>
            </a:r>
            <a:endParaRPr b="0" lang="en-US" sz="2800" spc="-1" strike="noStrike">
              <a:solidFill>
                <a:srgbClr val="000000"/>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عمل المنشأة فيها، سواء إن كانت هذه القوانين والالتزامات</a:t>
            </a:r>
            <a:endParaRPr b="0" lang="en-US" sz="2800" spc="-1" strike="noStrike">
              <a:solidFill>
                <a:srgbClr val="000000"/>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طبقة بشكل كاف.</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أكد من أن علاقاتها وأنشطتها تقع ضمن الإطار القانوني المقصود والصحيح؛</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تبقي على دراية بكافة الالتزامات القانونية</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تراجع مدي إذعانها بشكل دوري بالقوانين والالتزامات المطبقة.</a:t>
            </a:r>
            <a:endParaRPr b="0" lang="en-US" sz="2800" spc="-1" strike="noStrike">
              <a:solidFill>
                <a:srgbClr val="000000"/>
              </a:solidFill>
              <a:latin typeface="Arial"/>
            </a:endParaRPr>
          </a:p>
        </p:txBody>
      </p:sp>
      <p:sp>
        <p:nvSpPr>
          <p:cNvPr id="1897"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14BD-013F-4AF6-B294-7DF4F85C16E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98"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CC45-BF0A-40B3-B53A-518C9572B0ED}"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9" name="Picture 2" descr="https://encrypted-tbn1.google.com/images?q=tbn:ANd9GcRp4NQZaJ4G0GDtokR1w8eR_b-3BfRRwrILNhjUxGIbMkPcz4d9"/>
          <p:cNvPicPr/>
          <p:nvPr/>
        </p:nvPicPr>
        <p:blipFill>
          <a:blip r:embed="rId1"/>
          <a:stretch/>
        </p:blipFill>
        <p:spPr>
          <a:xfrm>
            <a:off x="0" y="0"/>
            <a:ext cx="1476360" cy="2940120"/>
          </a:xfrm>
          <a:prstGeom prst="rect">
            <a:avLst/>
          </a:prstGeom>
          <a:ln w="0">
            <a:noFill/>
          </a:ln>
        </p:spPr>
      </p:pic>
      <p:sp>
        <p:nvSpPr>
          <p:cNvPr id="190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2" name="Picture 6" descr="https://encrypted-tbn3.google.com/images?q=tbn:ANd9GcTRSwi4cxNZnWY37z_ujsWyZTS6L3-4duY7CHz4LoGE2pyK0ch1"/>
          <p:cNvPicPr/>
          <p:nvPr/>
        </p:nvPicPr>
        <p:blipFill>
          <a:blip r:embed="rId1"/>
          <a:stretch/>
        </p:blipFill>
        <p:spPr>
          <a:xfrm>
            <a:off x="571680" y="4143240"/>
            <a:ext cx="2252520" cy="2087640"/>
          </a:xfrm>
          <a:prstGeom prst="rect">
            <a:avLst/>
          </a:prstGeom>
          <a:ln w="0">
            <a:noFill/>
          </a:ln>
        </p:spPr>
      </p:pic>
      <p:sp>
        <p:nvSpPr>
          <p:cNvPr id="1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3300"/>
                </a:solidFill>
                <a:latin typeface="Arial"/>
              </a:rPr>
              <a:t>إن القصد من الأيزو </a:t>
            </a:r>
            <a:r>
              <a:rPr b="0" lang="ar-IQ" sz="4400" spc="-1" strike="noStrike">
                <a:solidFill>
                  <a:srgbClr val="ff3300"/>
                </a:solidFill>
                <a:latin typeface="Arial"/>
              </a:rPr>
              <a:t>26000</a:t>
            </a:r>
            <a:endParaRPr b="0" lang="en-US" sz="4400" spc="-1" strike="noStrike">
              <a:solidFill>
                <a:srgbClr val="000000"/>
              </a:solidFill>
              <a:latin typeface="Arial"/>
            </a:endParaRPr>
          </a:p>
        </p:txBody>
      </p:sp>
      <p:sp>
        <p:nvSpPr>
          <p:cNvPr id="1804"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هو مساعدة المنشآت في المساهمة في التنمية المستدامة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كما يهدف إلى تشجيعها أن تذهب أبعد من الالتزام القانوني مدركة أن الالتزام بالقانون هو واجب أساسي على أي منشأة وهو جزء أساسي من مسؤوليتها أمام المجتمع.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هى تستهدف الترويج لفهم مشترك في مجال المسؤولية المجتمعية وأن تكمل الآليات والمبادرات</a:t>
            </a:r>
            <a:endParaRPr b="0" lang="en-US" sz="3200" spc="-1" strike="noStrike">
              <a:solidFill>
                <a:srgbClr val="000000"/>
              </a:solidFill>
              <a:latin typeface="Arial"/>
            </a:endParaRPr>
          </a:p>
        </p:txBody>
      </p:sp>
      <p:sp>
        <p:nvSpPr>
          <p:cNvPr id="18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B8B2-DA62-498E-ADBE-F55B3FB19DA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D843-661E-4A81-9685-DFFC14764A45}"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1" name="Picture 2" descr="https://encrypted-tbn1.google.com/images?q=tbn:ANd9GcQTPHmO4B1SdCRnyxJPUejjm1i4CbCITq8ooqwb_p4w0PsgY7Yi"/>
          <p:cNvPicPr/>
          <p:nvPr/>
        </p:nvPicPr>
        <p:blipFill>
          <a:blip r:embed="rId1"/>
          <a:stretch/>
        </p:blipFill>
        <p:spPr>
          <a:xfrm>
            <a:off x="0" y="0"/>
            <a:ext cx="1835280" cy="2184480"/>
          </a:xfrm>
          <a:prstGeom prst="rect">
            <a:avLst/>
          </a:prstGeom>
          <a:ln w="0">
            <a:noFill/>
          </a:ln>
        </p:spPr>
      </p:pic>
      <p:sp>
        <p:nvSpPr>
          <p:cNvPr id="1902"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514440" algn="r" rtl="1">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حترام المعايير الدولية للسلوك</a:t>
            </a:r>
            <a:br>
              <a:rPr sz="2800"/>
            </a:br>
            <a:r>
              <a:rPr b="1" lang="en-US" sz="2400" spc="-1" strike="noStrike">
                <a:solidFill>
                  <a:srgbClr val="ff0000"/>
                </a:solidFill>
                <a:latin typeface="Arial"/>
              </a:rPr>
              <a:t> </a:t>
            </a:r>
            <a:r>
              <a:rPr b="1" lang="ar-IQ" sz="2400" spc="-1" strike="noStrike">
                <a:solidFill>
                  <a:srgbClr val="ff0000"/>
                </a:solidFill>
                <a:latin typeface="Arial"/>
              </a:rPr>
              <a:t> </a:t>
            </a:r>
            <a:r>
              <a:rPr b="0" lang="en-US" sz="2400" spc="-1" strike="noStrike">
                <a:solidFill>
                  <a:srgbClr val="ff0000"/>
                </a:solidFill>
                <a:latin typeface="Arial"/>
              </a:rPr>
              <a:t>Respect for international norms of behavior</a:t>
            </a:r>
            <a:endParaRPr b="0" lang="en-US" sz="2400" spc="-1" strike="noStrike">
              <a:solidFill>
                <a:srgbClr val="000000"/>
              </a:solidFill>
              <a:latin typeface="Arial"/>
            </a:endParaRPr>
          </a:p>
        </p:txBody>
      </p:sp>
      <p:sp>
        <p:nvSpPr>
          <p:cNvPr id="19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أن المنشأة ينبغي أن تحترم المعايير الدولية للسلوك مع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الالتزام بمبدأ احترام سيادة القانون</a:t>
            </a:r>
            <a:r>
              <a:rPr b="0" lang="en-US" sz="2800" spc="-1" strike="noStrike">
                <a:solidFill>
                  <a:srgbClr val="0070c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المواقف التي لا توفر الحد الأدنى من حماية المجتمع </a:t>
            </a:r>
            <a:r>
              <a:rPr b="0" lang="ar-SA" sz="2800" spc="-1" strike="noStrike">
                <a:solidFill>
                  <a:srgbClr val="ff0000"/>
                </a:solidFill>
                <a:latin typeface="Arial"/>
              </a:rPr>
              <a:t>والبيئة</a:t>
            </a:r>
            <a:r>
              <a:rPr b="0" lang="ar-SA" sz="2800" spc="-1" strike="noStrike">
                <a:solidFill>
                  <a:srgbClr val="000000"/>
                </a:solidFill>
                <a:latin typeface="Arial"/>
              </a:rPr>
              <a:t>، ينبغي على المنشأة أن تسعي جاهدة إلي احترام المعايير الدولية للسلوك</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ما يتعلق بالبلدان التي يكون بها القانون الداخلي أو تطبيقه</a:t>
            </a:r>
            <a:r>
              <a:rPr b="0" lang="ar-EG" sz="2800" spc="-1" strike="noStrike">
                <a:solidFill>
                  <a:srgbClr val="000000"/>
                </a:solidFill>
                <a:latin typeface="Arial"/>
              </a:rPr>
              <a:t> يتعارض بشكل كبير مع المعايير </a:t>
            </a:r>
            <a:r>
              <a:rPr b="0" lang="ar-SA" sz="2800" spc="-1" strike="noStrike">
                <a:solidFill>
                  <a:srgbClr val="000000"/>
                </a:solidFill>
                <a:latin typeface="Arial"/>
              </a:rPr>
              <a:t>الدولية للسلوك، ينبغي على المنشأة أن تبذل قصارى جهدها لاحترام هذه المعايير على أقصي نحو ممكن</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0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F4D8-806E-4D08-98DF-EA68C028694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0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9553-5758-4180-8E7B-8CACE0B23A1D}"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0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136080"/>
            <a:ext cx="82296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0070c0"/>
              </a:solidFill>
              <a:latin typeface="Arial"/>
            </a:endParaRPr>
          </a:p>
        </p:txBody>
      </p:sp>
      <p:sp>
        <p:nvSpPr>
          <p:cNvPr id="1908" name=""/>
          <p:cNvSpPr txBox="1"/>
          <p:nvPr/>
        </p:nvSpPr>
        <p:spPr>
          <a:xfrm>
            <a:off x="457200" y="692280"/>
            <a:ext cx="8229600" cy="5433840"/>
          </a:xfrm>
          <a:prstGeom prst="rect">
            <a:avLst/>
          </a:prstGeom>
          <a:noFill/>
          <a:ln w="0">
            <a:noFill/>
          </a:ln>
        </p:spPr>
        <p:txBody>
          <a:bodyPr anchor="t">
            <a:normAutofit fontScale="93000"/>
          </a:bodyPr>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وفي حالات تعارض القانون أو تطبيقه مع المعايير الدولية للسلوك وفي حالة ما إذا كان عدم إتباع هذه المعايير سيكون له عواقب وخيمة فإنه ينبغي على المنشأة </a:t>
            </a:r>
            <a:r>
              <a:rPr b="0" lang="en-US" sz="3300" spc="-1" strike="noStrike">
                <a:solidFill>
                  <a:srgbClr val="000000"/>
                </a:solidFill>
                <a:latin typeface="Arial"/>
              </a:rPr>
              <a:t>– </a:t>
            </a:r>
            <a:r>
              <a:rPr b="0" lang="ar-SA" sz="3300" spc="-1" strike="noStrike">
                <a:solidFill>
                  <a:srgbClr val="000000"/>
                </a:solidFill>
                <a:latin typeface="Arial"/>
              </a:rPr>
              <a:t>كلما أمكن </a:t>
            </a:r>
            <a:r>
              <a:rPr b="0" lang="en-US" sz="3300" spc="-1" strike="noStrike">
                <a:solidFill>
                  <a:srgbClr val="000000"/>
                </a:solidFill>
                <a:latin typeface="Arial"/>
              </a:rPr>
              <a:t>– </a:t>
            </a:r>
            <a:r>
              <a:rPr b="0" lang="ar-SA" sz="3300" spc="-1" strike="noStrike">
                <a:solidFill>
                  <a:srgbClr val="000000"/>
                </a:solidFill>
                <a:latin typeface="Arial"/>
              </a:rPr>
              <a:t>مراجعة طبيعة أنشطتها وعلاقاتها داخل هذا النطاق القانوني</a:t>
            </a:r>
            <a:r>
              <a:rPr b="0" lang="en-US" sz="3300" spc="-1" strike="noStrike">
                <a:solidFill>
                  <a:srgbClr val="000000"/>
                </a:solidFill>
                <a:latin typeface="Arial"/>
              </a:rPr>
              <a:t>.</a:t>
            </a:r>
            <a:endParaRPr b="0" lang="en-US" sz="3300" spc="-1" strike="noStrike">
              <a:solidFill>
                <a:srgbClr val="000000"/>
              </a:solidFill>
              <a:latin typeface="Arial"/>
            </a:endParaRPr>
          </a:p>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ينبغي على المنشأة أن تضع في اعتبارها الفرص والقنوات</a:t>
            </a:r>
            <a:r>
              <a:rPr b="0" lang="ar-IQ" sz="3300" spc="-1" strike="noStrike">
                <a:solidFill>
                  <a:srgbClr val="000000"/>
                </a:solidFill>
                <a:latin typeface="Arial"/>
              </a:rPr>
              <a:t> </a:t>
            </a:r>
            <a:r>
              <a:rPr b="0" lang="ar-SA" sz="3300" spc="-1" strike="noStrike">
                <a:solidFill>
                  <a:srgbClr val="000000"/>
                </a:solidFill>
                <a:latin typeface="Arial"/>
              </a:rPr>
              <a:t>الشرعية الهادفة إلي التأثير على المنشآت والهيئات لعلاج أي تعارض مثل هذا مع القانون الداخلي وتطبيقه</a:t>
            </a:r>
            <a:r>
              <a:rPr b="0" lang="en-US" sz="3300" spc="-1" strike="noStrike">
                <a:solidFill>
                  <a:srgbClr val="000000"/>
                </a:solidFill>
                <a:latin typeface="Arial"/>
              </a:rPr>
              <a:t>.</a:t>
            </a:r>
            <a:endParaRPr b="0" lang="en-US" sz="3300" spc="-1" strike="noStrike">
              <a:solidFill>
                <a:srgbClr val="000000"/>
              </a:solidFill>
              <a:latin typeface="Arial"/>
            </a:endParaRPr>
          </a:p>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ينبغي على المنشأة أن تبتعد عن التورط غير القانوني ف</a:t>
            </a:r>
            <a:r>
              <a:rPr b="0" lang="ar-IQ" sz="3300" spc="-1" strike="noStrike">
                <a:solidFill>
                  <a:srgbClr val="000000"/>
                </a:solidFill>
                <a:latin typeface="Arial"/>
              </a:rPr>
              <a:t>ي</a:t>
            </a:r>
            <a:r>
              <a:rPr b="0" lang="ar-SA" sz="3300" spc="-1" strike="noStrike">
                <a:solidFill>
                  <a:srgbClr val="000000"/>
                </a:solidFill>
                <a:latin typeface="Arial"/>
              </a:rPr>
              <a:t> أنشطة منشأة أخر</a:t>
            </a:r>
            <a:r>
              <a:rPr b="0" lang="ar-IQ" sz="3300" spc="-1" strike="noStrike">
                <a:solidFill>
                  <a:srgbClr val="000000"/>
                </a:solidFill>
                <a:latin typeface="Arial"/>
              </a:rPr>
              <a:t>ى</a:t>
            </a:r>
            <a:r>
              <a:rPr b="0" lang="ar-SA" sz="3300" spc="-1" strike="noStrike">
                <a:solidFill>
                  <a:srgbClr val="000000"/>
                </a:solidFill>
                <a:latin typeface="Arial"/>
              </a:rPr>
              <a:t> غير متوافقة مع معايير</a:t>
            </a:r>
            <a:r>
              <a:rPr b="0" lang="en-US" sz="3300" spc="-1" strike="noStrike">
                <a:solidFill>
                  <a:srgbClr val="000000"/>
                </a:solidFill>
                <a:latin typeface="Arial"/>
              </a:rPr>
              <a:t> </a:t>
            </a:r>
            <a:r>
              <a:rPr b="0" lang="ar-SA" sz="3300" spc="-1" strike="noStrike">
                <a:solidFill>
                  <a:srgbClr val="000000"/>
                </a:solidFill>
                <a:latin typeface="Arial"/>
              </a:rPr>
              <a:t>السلوك الدولية</a:t>
            </a:r>
            <a:r>
              <a:rPr b="0" lang="en-US" sz="3300" spc="-1" strike="noStrike">
                <a:solidFill>
                  <a:srgbClr val="000000"/>
                </a:solidFill>
                <a:latin typeface="Arial"/>
              </a:rPr>
              <a:t>.</a:t>
            </a:r>
            <a:endParaRPr b="0" lang="en-US" sz="3300" spc="-1" strike="noStrike">
              <a:solidFill>
                <a:srgbClr val="000000"/>
              </a:solidFill>
              <a:latin typeface="Arial"/>
            </a:endParaRPr>
          </a:p>
        </p:txBody>
      </p:sp>
      <p:sp>
        <p:nvSpPr>
          <p:cNvPr id="1909"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ACAD-5DB6-4F0A-87F0-3F76FF885BF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1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0311-611F-4D95-B524-E3A45B10DA52}"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حقوق الإنسان</a:t>
            </a:r>
            <a:br>
              <a:rPr sz="3200"/>
            </a:br>
            <a:r>
              <a:rPr b="0" lang="en-US" sz="3200" spc="-1" strike="noStrike">
                <a:solidFill>
                  <a:srgbClr val="ff0000"/>
                </a:solidFill>
                <a:latin typeface="Arial"/>
              </a:rPr>
              <a:t> </a:t>
            </a:r>
            <a:r>
              <a:rPr b="0" lang="en-US" sz="3200" spc="-1" strike="noStrike">
                <a:solidFill>
                  <a:srgbClr val="ff0000"/>
                </a:solidFill>
                <a:latin typeface="Arial"/>
              </a:rPr>
              <a:t>Respect for human rights</a:t>
            </a:r>
            <a:endParaRPr b="0" lang="en-US" sz="3200" spc="-1" strike="noStrike">
              <a:solidFill>
                <a:srgbClr val="000000"/>
              </a:solidFill>
              <a:latin typeface="Arial"/>
            </a:endParaRPr>
          </a:p>
        </p:txBody>
      </p:sp>
      <p:sp>
        <p:nvSpPr>
          <p:cNvPr id="1913"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أن المنشأة ينبغي أن تحترم حقوق الإنسان وينبغي أن تعترف بأهمية </a:t>
            </a:r>
            <a:endParaRPr b="0" lang="en-US" sz="3000" spc="-1" strike="noStrike">
              <a:solidFill>
                <a:srgbClr val="000000"/>
              </a:solidFill>
              <a:latin typeface="Arial"/>
            </a:endParaRPr>
          </a:p>
          <a:p>
            <a:pPr marL="308520" indent="-3085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هذه الحقوق وعمومتها</a:t>
            </a:r>
            <a:r>
              <a:rPr b="0" lang="en-US" sz="3000" spc="-1" strike="noStrike">
                <a:solidFill>
                  <a:srgbClr val="0070c0"/>
                </a:solidFill>
                <a:latin typeface="Arial"/>
              </a:rPr>
              <a:t> </a:t>
            </a:r>
            <a:r>
              <a:rPr b="0" lang="ar-IQ" sz="3000" spc="-1" strike="noStrike">
                <a:solidFill>
                  <a:srgbClr val="0070c0"/>
                </a:solidFill>
                <a:latin typeface="Arial"/>
              </a:rPr>
              <a:t> </a:t>
            </a:r>
            <a:r>
              <a:rPr b="0" lang="ar-IQ" sz="2600" spc="-1" strike="noStrike">
                <a:solidFill>
                  <a:srgbClr val="57a144"/>
                </a:solidFill>
                <a:latin typeface="Arial"/>
              </a:rPr>
              <a:t>و</a:t>
            </a:r>
            <a:r>
              <a:rPr b="0" lang="ar-SA" sz="2600" spc="-1" strike="noStrike">
                <a:solidFill>
                  <a:srgbClr val="57a144"/>
                </a:solidFill>
                <a:latin typeface="Arial"/>
              </a:rPr>
              <a:t>ينبغي على المنشأة القيام بما يلي</a:t>
            </a:r>
            <a:r>
              <a:rPr b="0" lang="en-US" sz="2600" spc="-1" strike="noStrike">
                <a:solidFill>
                  <a:srgbClr val="57a144"/>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حترام وتعزيز الحقوق الموضوعة في الميثاق الدولي لحقوق الإنسان</a:t>
            </a:r>
            <a:r>
              <a:rPr b="0" lang="en-US" sz="2600" spc="-1" strike="noStrike">
                <a:solidFill>
                  <a:srgbClr val="000000"/>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قبول بأن هذه الحقوق تعد عالمية وعامة وتعد جزءا لا يتجزأ من الحقوق المطبقة في كافة الدول والثقافات والمواقف</a:t>
            </a:r>
            <a:r>
              <a:rPr b="0" lang="en-US" sz="2600" spc="-1" strike="noStrike">
                <a:solidFill>
                  <a:srgbClr val="000000"/>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 تحذو خطوات نحو العمل على احترام حقوق الإنسان في البلاد التي لا تحمي حقوق الإنسان وأن تعمل أيضا على الابتعاد عن الاستفادة من هذه المواقف</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 تلتزم بمبدأ احترام المعايير الدولية للسلوك إذا كان القانون الوطني أو تطبيقه لا يوفر حماية كافية لحقوق الإنسان</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1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79FE-9421-4A7A-9983-800749B6E4D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1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ECAD-CFEA-43EA-B78E-67F5D9D43EDF}"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16" name="Picture 2" descr="https://encrypted-tbn1.google.com/images?q=tbn:ANd9GcRaFEarrHpoLOnBic0PwjnzL-oA9Tf2ziC-Q6Q__7f_QxiwyeJhow"/>
          <p:cNvPicPr/>
          <p:nvPr/>
        </p:nvPicPr>
        <p:blipFill>
          <a:blip r:embed="rId1"/>
          <a:stretch/>
        </p:blipFill>
        <p:spPr>
          <a:xfrm>
            <a:off x="0" y="0"/>
            <a:ext cx="1403280" cy="1268280"/>
          </a:xfrm>
          <a:prstGeom prst="rect">
            <a:avLst/>
          </a:prstGeom>
          <a:ln w="0">
            <a:noFill/>
          </a:ln>
        </p:spPr>
      </p:pic>
      <p:sp>
        <p:nvSpPr>
          <p:cNvPr id="191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0000"/>
                </a:solidFill>
                <a:latin typeface="Arial"/>
              </a:rPr>
              <a:t>المواضيع الجوهرية السبعة في المسؤولية المجتمعية</a:t>
            </a:r>
            <a:endParaRPr b="0" lang="en-US" sz="3200" spc="-1" strike="noStrike">
              <a:solidFill>
                <a:srgbClr val="000000"/>
              </a:solidFill>
              <a:latin typeface="Arial"/>
            </a:endParaRPr>
          </a:p>
        </p:txBody>
      </p:sp>
      <p:pic>
        <p:nvPicPr>
          <p:cNvPr id="1919" name="Content Placeholder 6" descr=""/>
          <p:cNvPicPr/>
          <p:nvPr/>
        </p:nvPicPr>
        <p:blipFill>
          <a:blip r:embed="rId1"/>
          <a:stretch/>
        </p:blipFill>
        <p:spPr>
          <a:xfrm>
            <a:off x="2300400" y="1600200"/>
            <a:ext cx="4543200" cy="4525920"/>
          </a:xfrm>
          <a:prstGeom prst="rect">
            <a:avLst/>
          </a:prstGeom>
          <a:ln w="0">
            <a:noFill/>
          </a:ln>
        </p:spPr>
      </p:pic>
      <p:sp>
        <p:nvSpPr>
          <p:cNvPr id="19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7356-E09A-4890-80B1-B4E77E58825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078D-AA7E-4696-9360-64A4D4A64A1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24" name="" descr=""/>
          <p:cNvPicPr/>
          <p:nvPr/>
        </p:nvPicPr>
        <p:blipFill>
          <a:blip r:embed="rId1"/>
          <a:stretch/>
        </p:blipFill>
        <p:spPr>
          <a:xfrm>
            <a:off x="457200" y="1600200"/>
            <a:ext cx="8229600" cy="4525920"/>
          </a:xfrm>
          <a:prstGeom prst="rect">
            <a:avLst/>
          </a:prstGeom>
          <a:ln w="0">
            <a:noFill/>
          </a:ln>
        </p:spPr>
      </p:pic>
      <p:sp>
        <p:nvSpPr>
          <p:cNvPr id="19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18AA-F29F-44D0-87F1-D93C9559DCA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7C6C-5B31-4CC1-B9FF-F7BB29317F9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8" name="Picture 2" descr=""/>
          <p:cNvPicPr/>
          <p:nvPr/>
        </p:nvPicPr>
        <p:blipFill>
          <a:blip r:embed="rId2"/>
          <a:stretch/>
        </p:blipFill>
        <p:spPr>
          <a:xfrm>
            <a:off x="1274760" y="0"/>
            <a:ext cx="65944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الحوكمة المؤسسية </a:t>
            </a:r>
            <a:r>
              <a:rPr b="0" lang="en-US" sz="2800" spc="-1" strike="noStrike">
                <a:solidFill>
                  <a:srgbClr val="ff0000"/>
                </a:solidFill>
                <a:latin typeface="Arial"/>
              </a:rPr>
              <a:t>6.2</a:t>
            </a:r>
            <a:r>
              <a:rPr b="0" lang="en-US" sz="2800" spc="-1" strike="noStrike">
                <a:solidFill>
                  <a:srgbClr val="ff0000"/>
                </a:solidFill>
                <a:latin typeface="Arial"/>
              </a:rPr>
              <a:t> </a:t>
            </a:r>
            <a:r>
              <a:rPr b="0" lang="en-US" sz="2800" spc="-1" strike="noStrike">
                <a:solidFill>
                  <a:srgbClr val="ff0000"/>
                </a:solidFill>
                <a:latin typeface="Arial"/>
              </a:rPr>
              <a:t>Organizational governance</a:t>
            </a:r>
            <a:endParaRPr b="0" lang="en-US" sz="2800" spc="-1" strike="noStrike">
              <a:solidFill>
                <a:srgbClr val="000000"/>
              </a:solidFill>
              <a:latin typeface="Arial"/>
            </a:endParaRPr>
          </a:p>
        </p:txBody>
      </p:sp>
      <p:sp>
        <p:nvSpPr>
          <p:cNvPr id="1930" name=""/>
          <p:cNvSpPr txBox="1"/>
          <p:nvPr/>
        </p:nvSpPr>
        <p:spPr>
          <a:xfrm>
            <a:off x="457200" y="1600200"/>
            <a:ext cx="8229600" cy="4525920"/>
          </a:xfrm>
          <a:prstGeom prst="rect">
            <a:avLst/>
          </a:prstGeom>
          <a:noFill/>
          <a:ln w="0">
            <a:noFill/>
          </a:ln>
        </p:spPr>
        <p:txBody>
          <a:bodyPr anchor="t">
            <a:norm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حوكمة المؤسسية هي النظام الذي يحكم اتخاذ وتنفيذ قرارات المنشأة لتحقيق أهدافها.</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ينبغي أن تقوم الحوكمة الفعالة على دمج مبادئ المسؤولية المجتمعية في صنع القرار وتنفيذه. </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ينبغي أن تنظر المنشأة في الممارسات، والمواضيع الجوهرية وقضايا المسؤولية المجتمعية عندما تقوم ببناء ومراجعة نظام حوكمتها</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 نظرة عامة حول الحوكمة المؤسسية</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بادئ والاعتبارات</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هياكل وعمليات صنع القرار</a:t>
            </a:r>
            <a:endParaRPr b="0" lang="en-US" sz="3000" spc="-1" strike="noStrike">
              <a:solidFill>
                <a:srgbClr val="000000"/>
              </a:solidFill>
              <a:latin typeface="Arial"/>
            </a:endParaRPr>
          </a:p>
        </p:txBody>
      </p:sp>
      <p:sp>
        <p:nvSpPr>
          <p:cNvPr id="193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6E09-2A21-4698-8ED9-86EE3E60468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0A4C-22ED-4833-9FB7-21C0C0EAE18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حقوق الإنسان</a:t>
            </a:r>
            <a:r>
              <a:rPr b="0" lang="ar-IQ" sz="3600" spc="-1" strike="noStrike">
                <a:solidFill>
                  <a:srgbClr val="ff0000"/>
                </a:solidFill>
                <a:latin typeface="Arial"/>
              </a:rPr>
              <a:t> </a:t>
            </a:r>
            <a:r>
              <a:rPr b="0" lang="en-US" sz="3600" spc="-1" strike="noStrike">
                <a:solidFill>
                  <a:srgbClr val="ff0000"/>
                </a:solidFill>
                <a:latin typeface="Arial"/>
              </a:rPr>
              <a:t>6.3</a:t>
            </a:r>
            <a:r>
              <a:rPr b="0" lang="en-US" sz="3600" spc="-1" strike="noStrike">
                <a:solidFill>
                  <a:srgbClr val="ff0000"/>
                </a:solidFill>
                <a:latin typeface="Arial"/>
              </a:rPr>
              <a:t> </a:t>
            </a:r>
            <a:r>
              <a:rPr b="0" lang="en-US" sz="3600" spc="-1" strike="noStrike">
                <a:solidFill>
                  <a:srgbClr val="ff0000"/>
                </a:solidFill>
                <a:latin typeface="Arial"/>
              </a:rPr>
              <a:t>Human rights</a:t>
            </a:r>
            <a:endParaRPr b="0" lang="en-US" sz="3600" spc="-1" strike="noStrike">
              <a:solidFill>
                <a:srgbClr val="000000"/>
              </a:solidFill>
              <a:latin typeface="Arial"/>
            </a:endParaRPr>
          </a:p>
        </p:txBody>
      </p:sp>
      <p:sp>
        <p:nvSpPr>
          <p:cNvPr id="1935" name=""/>
          <p:cNvSpPr txBox="1"/>
          <p:nvPr/>
        </p:nvSpPr>
        <p:spPr>
          <a:xfrm>
            <a:off x="457200" y="1600200"/>
            <a:ext cx="8229600" cy="4525920"/>
          </a:xfrm>
          <a:prstGeom prst="rect">
            <a:avLst/>
          </a:prstGeom>
          <a:noFill/>
          <a:ln w="0">
            <a:noFill/>
          </a:ln>
        </p:spPr>
        <p:txBody>
          <a:bodyPr anchor="t">
            <a:normAutofit fontScale="87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حقوق الإنسان هي الحقوق الأساسية لجميع البشر والتي تحق لهم لكونهم بشر. وهناك فئتين رئيسيتين لحقوق الإنسان</a:t>
            </a:r>
            <a:r>
              <a:rPr b="0" lang="ar-IQ" sz="3200" spc="-1" strike="noStrike">
                <a:solidFill>
                  <a:srgbClr val="000000"/>
                </a:solidFill>
                <a:latin typeface="Arial"/>
              </a:rPr>
              <a:t>.</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علق الفئة الأولى بالحقوق المدنية والسياسية، وتشمل هذه الحقوق الحق في الحياة والحرية، والمساواة أمام القانون وحرية التعبير. </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تتعلق الفئة الثانية بالحقوق الاقتصادية والمجتمعية والثقافية، وتشمل هذه الحقوق الحق في العمل والحق في الغذاء والحق في الصحة والحق في التعليم والحق في الأمن المجتمعي.</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FC5C-42B5-4178-9D38-B2EA5D6A4C27}"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9949-B7A1-4731-8BA0-AED30A1D080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pic>
        <p:nvPicPr>
          <p:cNvPr id="1939" name="Picture 2" descr="https://encrypted-tbn1.google.com/images?q=tbn:ANd9GcQRWIi8x5BdUXETk9yIUC4VXkPvoP313duwnnvqtx_li0tqH74eow"/>
          <p:cNvPicPr/>
          <p:nvPr/>
        </p:nvPicPr>
        <p:blipFill>
          <a:blip r:embed="rId1"/>
          <a:stretch/>
        </p:blipFill>
        <p:spPr>
          <a:xfrm>
            <a:off x="6480" y="0"/>
            <a:ext cx="1252440" cy="167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
          <p:cNvSpPr txBox="1"/>
          <p:nvPr/>
        </p:nvSpPr>
        <p:spPr>
          <a:xfrm>
            <a:off x="457200" y="1600200"/>
            <a:ext cx="8229600" cy="4525920"/>
          </a:xfrm>
          <a:prstGeom prst="rect">
            <a:avLst/>
          </a:prstGeom>
          <a:noFill/>
          <a:ln w="0">
            <a:noFill/>
          </a:ln>
        </p:spPr>
        <p:txBody>
          <a:bodyPr anchor="t">
            <a:normAutofit fontScale="9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واجب الاجته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مواقف المخاطرة المتعلقة بحقوق الإنسا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تجنب التواطؤ</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حل المشاك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التمييز والمجموعات المستضعف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حقوق المدنية والسياس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7</a:t>
            </a:r>
            <a:r>
              <a:rPr b="0" lang="ar-SA" sz="3200" spc="-1" strike="noStrike">
                <a:solidFill>
                  <a:srgbClr val="000000"/>
                </a:solidFill>
                <a:latin typeface="Arial"/>
              </a:rPr>
              <a:t>: الحقوق الاقتصادية والاجتماعية والثقاف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8</a:t>
            </a:r>
            <a:r>
              <a:rPr b="0" lang="ar-SA" sz="3200" spc="-1" strike="noStrike">
                <a:solidFill>
                  <a:srgbClr val="000000"/>
                </a:solidFill>
                <a:latin typeface="Arial"/>
              </a:rPr>
              <a:t>: الحقوق الأساسية في العمل</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D201-B516-4F82-A7E3-884A77015FA5}"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1A87-BD00-485B-A97B-FA179F7676D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ممارسات العمالية</a:t>
            </a:r>
            <a:r>
              <a:rPr b="0" lang="ar-IQ" sz="3600" spc="-1" strike="noStrike">
                <a:solidFill>
                  <a:srgbClr val="ff0000"/>
                </a:solidFill>
                <a:latin typeface="Times New Roman"/>
              </a:rPr>
              <a:t>ِ </a:t>
            </a:r>
            <a:r>
              <a:rPr b="0" lang="en-US" sz="3600" spc="-1" strike="noStrike">
                <a:solidFill>
                  <a:srgbClr val="ff0000"/>
                </a:solidFill>
                <a:latin typeface="Times New Roman"/>
              </a:rPr>
              <a:t>6.4</a:t>
            </a:r>
            <a:r>
              <a:rPr b="0" lang="en-US" sz="3600" spc="-1" strike="noStrike">
                <a:solidFill>
                  <a:srgbClr val="ff0000"/>
                </a:solidFill>
                <a:latin typeface="Times New Roman"/>
              </a:rPr>
              <a:t> </a:t>
            </a:r>
            <a:r>
              <a:rPr b="0" lang="en-US" sz="3600" spc="-1" strike="noStrike">
                <a:solidFill>
                  <a:srgbClr val="ff0000"/>
                </a:solidFill>
                <a:latin typeface="Times New Roman"/>
              </a:rPr>
              <a:t>Labour practices</a:t>
            </a:r>
            <a:endParaRPr b="0" lang="en-US" sz="3600" spc="-1" strike="noStrike">
              <a:solidFill>
                <a:srgbClr val="000000"/>
              </a:solidFill>
              <a:latin typeface="Arial"/>
            </a:endParaRPr>
          </a:p>
        </p:txBody>
      </p:sp>
      <p:sp>
        <p:nvSpPr>
          <p:cNvPr id="1946"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شمل ممارسات العمل للمنشآت كافة السياسات والممارسات المتعلقة بالعمل المؤدي داخل المنشأة أو بواسطتها أو بالنيابة عنها. بما في ذلك أعمال المقاولة من الباط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شمل ممارسات العمل توظيف وترقية العمال؛ الإجراءات التأديبية والشكاوى؛ نقل وتغيير مواقع العمال؛ إنهاء علاقة العمل؛ التدريب وتنمية المهارات؛ الصحة والأمان والصحة الصناعية؛ أي سياسة أو ممارسة تؤثر على ظروف العمل خاصة ساعات العمل والرواتب.</a:t>
            </a:r>
            <a:endParaRPr b="0" lang="en-US" sz="3200" spc="-1" strike="noStrike">
              <a:solidFill>
                <a:srgbClr val="000000"/>
              </a:solidFill>
              <a:latin typeface="Arial"/>
            </a:endParaRPr>
          </a:p>
        </p:txBody>
      </p:sp>
      <p:sp>
        <p:nvSpPr>
          <p:cNvPr id="194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FC6F-13E3-4F49-8050-74909D8A776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4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96DE-F83D-40F8-9F9B-FCC666F9C89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4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التوظيف وعلاقات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ظروف العمل والحماية المجتم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حوار المجتمع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الصحة والسلامة في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تنمية وتدريب الكوادر البشرية في مكان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2063-E5CC-44B8-A604-704A3117058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BBBB-9FA9-403E-ACD4-C76348547B3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0000"/>
                </a:solidFill>
                <a:latin typeface="Arial"/>
              </a:rPr>
              <a:t>ما أهمية المسؤولية المجتمعية ؟</a:t>
            </a:r>
            <a:endParaRPr b="0" lang="en-US" sz="4400" spc="-1" strike="noStrike">
              <a:solidFill>
                <a:srgbClr val="000000"/>
              </a:solidFill>
              <a:latin typeface="Arial"/>
            </a:endParaRPr>
          </a:p>
        </p:txBody>
      </p:sp>
      <p:sp>
        <p:nvSpPr>
          <p:cNvPr id="180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جميع المنشآت حول العالم وأصحاب المصالح</a:t>
            </a:r>
            <a:r>
              <a:rPr b="0" lang="en-US" sz="3200" spc="-1" strike="noStrike">
                <a:solidFill>
                  <a:srgbClr val="000000"/>
                </a:solidFill>
                <a:latin typeface="Arial"/>
              </a:rPr>
              <a:t> </a:t>
            </a:r>
            <a:r>
              <a:rPr b="0" lang="ar-IQ" sz="3200" spc="-1" strike="noStrike">
                <a:solidFill>
                  <a:srgbClr val="000000"/>
                </a:solidFill>
                <a:latin typeface="Arial"/>
              </a:rPr>
              <a:t>والأطراف المعنية أصبحوا على دراية متزايدة بالاحتياج لفوائد السلوك المسؤول مجتمعياً . إن هدف المسؤولية المجتمعية هو الإسهام في التنمية المستدام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أصبح أداء المنشاة فيما يتعلق بالمجتمع الذى تعمل به وفيما يتعلق بالبيئة التي تؤثر عليها جزءا حرجا في قياس أدائها الكلى وقدرتها على الاستمرار في العمل بفاعلية .</a:t>
            </a:r>
            <a:endParaRPr b="0" lang="en-US" sz="3200" spc="-1" strike="noStrike">
              <a:solidFill>
                <a:srgbClr val="000000"/>
              </a:solidFill>
              <a:latin typeface="Arial"/>
            </a:endParaRPr>
          </a:p>
        </p:txBody>
      </p:sp>
      <p:sp>
        <p:nvSpPr>
          <p:cNvPr id="18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614C-9E69-4FEC-AE1A-13BFDC357F64}"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7598-B5EC-48AF-959F-0859C0512475}"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البيئة </a:t>
            </a:r>
            <a:r>
              <a:rPr b="0" lang="en-US" sz="3600" spc="-1" strike="noStrike">
                <a:solidFill>
                  <a:srgbClr val="ff0000"/>
                </a:solidFill>
                <a:latin typeface="Arial"/>
              </a:rPr>
              <a:t>6.5</a:t>
            </a:r>
            <a:r>
              <a:rPr b="0" lang="en-US" sz="3600" spc="-1" strike="noStrike">
                <a:solidFill>
                  <a:srgbClr val="ff0000"/>
                </a:solidFill>
                <a:latin typeface="Arial"/>
              </a:rPr>
              <a:t> </a:t>
            </a:r>
            <a:r>
              <a:rPr b="0" lang="en-US" sz="3600" spc="-1" strike="noStrike">
                <a:solidFill>
                  <a:srgbClr val="ff0000"/>
                </a:solidFill>
                <a:latin typeface="Arial"/>
              </a:rPr>
              <a:t>The environment</a:t>
            </a:r>
            <a:endParaRPr b="0" lang="en-US" sz="3600" spc="-1" strike="noStrike">
              <a:solidFill>
                <a:srgbClr val="000000"/>
              </a:solidFill>
              <a:latin typeface="Arial"/>
            </a:endParaRPr>
          </a:p>
        </p:txBody>
      </p:sp>
      <p:sp>
        <p:nvSpPr>
          <p:cNvPr id="1956" name=""/>
          <p:cNvSpPr txBox="1"/>
          <p:nvPr/>
        </p:nvSpPr>
        <p:spPr>
          <a:xfrm>
            <a:off x="457200" y="1600200"/>
            <a:ext cx="8229600" cy="452592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قرارات و أنشطة المنشآت دائما يكون لها تأثير على البيئة - أيا كان موقعهم. هذه التأثيرات قد تكون مرتبطة باستخدام الموارد الحية وغير الحية، وإحداث التلوث والنفايات، الآثار الناتجة لنشاطات المنشأة، والمنتجات والخدمات على البيئة الطبيعي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 لتقليل آثارها البيئية، يجب على المنشآت تبني منهج متكامل يأخذ في إعتباره الآثار الاقتصادية و الاجتماعية و البيئية الناتجة عن قرارات و أنشطة المنشأة.</a:t>
            </a:r>
            <a:endParaRPr b="0" lang="en-US" sz="3200" spc="-1" strike="noStrike">
              <a:solidFill>
                <a:srgbClr val="000000"/>
              </a:solidFill>
              <a:latin typeface="Arial"/>
            </a:endParaRPr>
          </a:p>
        </p:txBody>
      </p:sp>
      <p:sp>
        <p:nvSpPr>
          <p:cNvPr id="195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9763-371E-485E-8060-85D2B59F014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D157-B9AE-463D-A42C-B4DD4790FFB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
          <p:cNvSpPr txBox="1"/>
          <p:nvPr/>
        </p:nvSpPr>
        <p:spPr>
          <a:xfrm>
            <a:off x="457200" y="1600200"/>
            <a:ext cx="8229600" cy="4525920"/>
          </a:xfrm>
          <a:prstGeom prst="rect">
            <a:avLst/>
          </a:prstGeom>
          <a:noFill/>
          <a:ln w="0">
            <a:noFill/>
          </a:ln>
        </p:spPr>
        <p:txBody>
          <a:bodyPr anchor="t">
            <a:normAutofit/>
          </a:bodyPr>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ea typeface="Arial"/>
              </a:rPr>
              <a:t>: منع التلوث</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ea typeface="Arial"/>
              </a:rPr>
              <a:t>: الاستخدام المستدام للموارد</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ea typeface="Arial"/>
              </a:rPr>
              <a:t>: تكيف وتخفيف التغير المناخي</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ea typeface="Arial"/>
              </a:rPr>
              <a:t>: حماية وإصلاح البيئة الطبي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8003-7021-4184-9823-B958BBB967E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15FD-4818-4073-9134-981C19F9F7D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ممارسات التشغيل العادلة </a:t>
            </a:r>
            <a:r>
              <a:rPr b="0" lang="en-US" sz="2800" spc="-1" strike="noStrike">
                <a:solidFill>
                  <a:srgbClr val="ff0000"/>
                </a:solidFill>
                <a:latin typeface="Arial"/>
              </a:rPr>
              <a:t>6.6</a:t>
            </a:r>
            <a:r>
              <a:rPr b="0" lang="en-US" sz="2800" spc="-1" strike="noStrike">
                <a:solidFill>
                  <a:srgbClr val="ff0000"/>
                </a:solidFill>
                <a:latin typeface="Arial"/>
              </a:rPr>
              <a:t> </a:t>
            </a:r>
            <a:r>
              <a:rPr b="0" lang="en-US" sz="2800" spc="-1" strike="noStrike">
                <a:solidFill>
                  <a:srgbClr val="ff0000"/>
                </a:solidFill>
                <a:latin typeface="Arial"/>
              </a:rPr>
              <a:t>Fair operating practices</a:t>
            </a:r>
            <a:endParaRPr b="0" lang="en-US" sz="2800" spc="-1" strike="noStrike">
              <a:solidFill>
                <a:srgbClr val="000000"/>
              </a:solidFill>
              <a:latin typeface="Arial"/>
            </a:endParaRPr>
          </a:p>
        </p:txBody>
      </p:sp>
      <p:sp>
        <p:nvSpPr>
          <p:cNvPr id="1966" name=""/>
          <p:cNvSpPr txBox="1"/>
          <p:nvPr/>
        </p:nvSpPr>
        <p:spPr>
          <a:xfrm>
            <a:off x="457200" y="1341000"/>
            <a:ext cx="8229600" cy="478476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علق ممارسات التشغيل العادلة بالسلوك الأخلاقي في تعاملات المنشأة مع المنشآت الأخرى والأفراد.</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يتضمن ذلك العلاقات بين المنشآت والوكالات الحكومية بالإضافة إلى العلاقة بين المنشآت وشركائهم ومورديهم ومقاوليهم ومنافسيهم والجمعيات التي يكونوا أعضاء فيها.</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ظهر موضوعات ممارسات التشغيل العادلة في مجالات مكافحة الفساد والإنخراط المسؤول في المناخ العام والمنافسة العادلة والسلوك المسؤول مجتمعياً فيما يتعلق بالمنشآت الأخرى وإحترام حقوق الملكية.</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2077-789D-431B-A4F6-7D51DBB869BD}"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6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ACF0-6020-45E2-9FAF-1DAA364D16C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a:t>
            </a:r>
            <a:r>
              <a:rPr b="0" lang="ar-IQ" sz="3200" spc="-1" strike="noStrike">
                <a:solidFill>
                  <a:srgbClr val="000000"/>
                </a:solidFill>
                <a:latin typeface="Arial"/>
              </a:rPr>
              <a:t>مكافحة</a:t>
            </a:r>
            <a:r>
              <a:rPr b="0" lang="ar-SA" sz="3200" spc="-1" strike="noStrike">
                <a:solidFill>
                  <a:srgbClr val="000000"/>
                </a:solidFill>
                <a:latin typeface="Arial"/>
              </a:rPr>
              <a:t> الفس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الانخراط السياسي المسؤو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منافسة العادل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تعزيز المسؤولية المجتمعية في مجال التأثي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EG" sz="3200" spc="-1" strike="noStrike">
                <a:solidFill>
                  <a:srgbClr val="000000"/>
                </a:solidFill>
                <a:latin typeface="Arial"/>
              </a:rPr>
              <a:t>:</a:t>
            </a:r>
            <a:r>
              <a:rPr b="0" lang="ar-SA" sz="3200" spc="-1" strike="noStrike">
                <a:solidFill>
                  <a:srgbClr val="000000"/>
                </a:solidFill>
                <a:latin typeface="Arial"/>
              </a:rPr>
              <a:t> احترام حقوق الملك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CB99-A757-44A1-888A-1722218F2E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84C5-EBA1-4D72-9118-55E61137EBA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قضايا المستهلك </a:t>
            </a:r>
            <a:r>
              <a:rPr b="0" lang="en-US" sz="3600" spc="-1" strike="noStrike">
                <a:solidFill>
                  <a:srgbClr val="ff0000"/>
                </a:solidFill>
                <a:latin typeface="Arial"/>
              </a:rPr>
              <a:t>6.7</a:t>
            </a:r>
            <a:r>
              <a:rPr b="0" lang="en-US" sz="3600" spc="-1" strike="noStrike">
                <a:solidFill>
                  <a:srgbClr val="ff0000"/>
                </a:solidFill>
                <a:latin typeface="Arial"/>
              </a:rPr>
              <a:t> </a:t>
            </a:r>
            <a:r>
              <a:rPr b="0" lang="en-US" sz="3600" spc="-1" strike="noStrike">
                <a:solidFill>
                  <a:srgbClr val="ff0000"/>
                </a:solidFill>
                <a:latin typeface="Arial"/>
              </a:rPr>
              <a:t>Consumer issues</a:t>
            </a:r>
            <a:endParaRPr b="0" lang="en-US" sz="3600" spc="-1" strike="noStrike">
              <a:solidFill>
                <a:srgbClr val="000000"/>
              </a:solidFill>
              <a:latin typeface="Arial"/>
            </a:endParaRPr>
          </a:p>
        </p:txBody>
      </p:sp>
      <p:sp>
        <p:nvSpPr>
          <p:cNvPr id="1976"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إن المنشآت التي تقدم منتجات أو خدمات للعملاء والمستهلكين لها مسؤوليات تجاه هؤلاء العملاء والمستهلكين.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هذه المسؤوليات تتضمن التعليم وتوفير معلومات دقيقة واستخدام معلومات نزيهة وشفافة ومفيدة في التسويق والعمليات التعاقدية وتعزيز الإستهلاك المستدام ،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كما تتضمن أيضاً تقليل المخاطر الناجمة عن إستخدام المنتجات والخدمات ومن خلال التصميم والتصنيع والتوزيع والإمداد بالمعلومات وخدمات الدعم وإجراءات الإسترداد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وتقوم العديد من المنشآت بجمع أو تناول المعلومات الشخصية ويكون لديها مسؤولية لحماية هذه المعلومات وخصوصية المستهلكين.</a:t>
            </a:r>
            <a:endParaRPr b="0" lang="en-US" sz="3000" spc="-1" strike="noStrike">
              <a:solidFill>
                <a:srgbClr val="000000"/>
              </a:solidFill>
              <a:latin typeface="Arial"/>
            </a:endParaRPr>
          </a:p>
        </p:txBody>
      </p:sp>
      <p:sp>
        <p:nvSpPr>
          <p:cNvPr id="197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9B8A-148B-48A6-A317-81293AAD0B7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D471-91A8-4D70-B5B2-114D0008094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1"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ممارسات تسويقية ومعلوماتية وتعاقدية عادل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حماية صحة وسلامة المستهلك</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استهلاك المستدام</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خدمة ودعم المستهلك وحل النزاعات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حماية بيانات المستهلك وخصوصيتها</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دخول إلى الخدمات الأساس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قضية </a:t>
            </a:r>
            <a:r>
              <a:rPr b="0" lang="en-US" sz="3200" spc="-1" strike="noStrike">
                <a:solidFill>
                  <a:srgbClr val="000000"/>
                </a:solidFill>
                <a:latin typeface="Arial"/>
              </a:rPr>
              <a:t>7</a:t>
            </a:r>
            <a:r>
              <a:rPr b="0" lang="ar-EG" sz="3200" spc="-1" strike="noStrike">
                <a:solidFill>
                  <a:srgbClr val="000000"/>
                </a:solidFill>
                <a:latin typeface="Arial"/>
              </a:rPr>
              <a:t>: التعليم والتوعية</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ECE2-608B-4465-A707-BC886AEB7FAE}"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32AD-D186-4CB8-90AF-215C436BEEF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مشاركة المجتمع وتنميته</a:t>
            </a:r>
            <a:br>
              <a:rPr sz="2800"/>
            </a:br>
            <a:r>
              <a:rPr b="0" lang="ar-IQ" sz="2800" spc="-1" strike="noStrike">
                <a:solidFill>
                  <a:srgbClr val="ff0000"/>
                </a:solidFill>
                <a:latin typeface="Arial"/>
              </a:rPr>
              <a:t> </a:t>
            </a:r>
            <a:r>
              <a:rPr b="0" lang="en-US" sz="2800" spc="-1" strike="noStrike">
                <a:solidFill>
                  <a:srgbClr val="ff0000"/>
                </a:solidFill>
                <a:latin typeface="Arial"/>
              </a:rPr>
              <a:t>6.8</a:t>
            </a:r>
            <a:r>
              <a:rPr b="0" lang="en-US" sz="2800" spc="-1" strike="noStrike">
                <a:solidFill>
                  <a:srgbClr val="ff0000"/>
                </a:solidFill>
                <a:latin typeface="Arial"/>
              </a:rPr>
              <a:t> </a:t>
            </a:r>
            <a:r>
              <a:rPr b="0" lang="en-US" sz="2800" spc="-1" strike="noStrike">
                <a:solidFill>
                  <a:srgbClr val="ff0000"/>
                </a:solidFill>
                <a:latin typeface="Arial"/>
              </a:rPr>
              <a:t>Community involvement and development</a:t>
            </a:r>
            <a:endParaRPr b="0" lang="en-US" sz="2800" spc="-1" strike="noStrike">
              <a:solidFill>
                <a:srgbClr val="000000"/>
              </a:solidFill>
              <a:latin typeface="Arial"/>
            </a:endParaRPr>
          </a:p>
        </p:txBody>
      </p:sp>
      <p:sp>
        <p:nvSpPr>
          <p:cNvPr id="1986" name=""/>
          <p:cNvSpPr txBox="1"/>
          <p:nvPr/>
        </p:nvSpPr>
        <p:spPr>
          <a:xfrm>
            <a:off x="457200" y="1600200"/>
            <a:ext cx="8229600" cy="4525920"/>
          </a:xfrm>
          <a:prstGeom prst="rect">
            <a:avLst/>
          </a:prstGeom>
          <a:noFill/>
          <a:ln w="0">
            <a:noFill/>
          </a:ln>
        </p:spPr>
        <p:txBody>
          <a:bodyPr anchor="t">
            <a:normAutofit fontScale="94000"/>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من المقبول على نطاق واسع اليوم أن يكون للمنشآت علاقة مع المجتمعات التي تعمل فيها</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هذه العلاقة قد تكون على اساس مشاركة المجتمع في المساهمة في تنمية المجتمع</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مشاركة المجتمع – سواء بصورة فردية أو من خلال الجمعيات التي تسعى الى تعزيز الصالح العام – تساعد على تعزيز دور المجتمع المدني</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المنشآت التي تشترك بطريقة محترمة مع المجتمع ومؤسساته تعكس وتعزز القيم الديمقراطية والمدنية</a:t>
            </a:r>
            <a:r>
              <a:rPr b="0" lang="ar-IQ" sz="3200" spc="-1" strike="noStrike">
                <a:solidFill>
                  <a:srgbClr val="000000"/>
                </a:solidFill>
                <a:latin typeface="Arial"/>
              </a:rPr>
              <a:t>.</a:t>
            </a:r>
            <a:endParaRPr b="0" lang="en-US" sz="3200" spc="-1" strike="noStrike">
              <a:solidFill>
                <a:srgbClr val="000000"/>
              </a:solidFill>
              <a:latin typeface="Arial"/>
            </a:endParaRPr>
          </a:p>
        </p:txBody>
      </p:sp>
      <p:sp>
        <p:nvSpPr>
          <p:cNvPr id="198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8545-96B7-4040-ABF4-950042A47A3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8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66FD-3730-4B9C-AC67-A80F5E56D01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8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المشاركة المجتم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التعليم والثقاف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خلق فرص عمل وتنمية المهار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التطور التكنولوجي</a:t>
            </a:r>
            <a:r>
              <a:rPr b="0" lang="ar-IQ" sz="3200" spc="-1" strike="noStrike">
                <a:solidFill>
                  <a:srgbClr val="000000"/>
                </a:solidFill>
                <a:latin typeface="Arial"/>
              </a:rPr>
              <a:t>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الثروة وزيادة الدخ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صح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7</a:t>
            </a:r>
            <a:r>
              <a:rPr b="0" lang="ar-SA" sz="3200" spc="-1" strike="noStrike">
                <a:solidFill>
                  <a:srgbClr val="000000"/>
                </a:solidFill>
                <a:latin typeface="Arial"/>
              </a:rPr>
              <a:t>: الاستثمار المجتمع</a:t>
            </a:r>
            <a:r>
              <a:rPr b="0" lang="ar-IQ" sz="3200" spc="-1" strike="noStrike">
                <a:solidFill>
                  <a:srgbClr val="000000"/>
                </a:solidFill>
                <a:latin typeface="Arial"/>
              </a:rPr>
              <a:t>ي</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497B-223F-4572-8BBB-6B4D195AC1DB}"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9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C566-95B6-40FD-8166-02BF2E97867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6840" y="274680"/>
            <a:ext cx="7467480" cy="487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00000"/>
                </a:solidFill>
                <a:latin typeface="Arial"/>
              </a:rPr>
              <a:t>جدول </a:t>
            </a:r>
            <a:r>
              <a:rPr b="0" lang="ar-IQ" sz="2900" spc="-1" strike="noStrike">
                <a:solidFill>
                  <a:srgbClr val="c00000"/>
                </a:solidFill>
                <a:latin typeface="Arial"/>
              </a:rPr>
              <a:t>يبين </a:t>
            </a:r>
            <a:r>
              <a:rPr b="0" lang="ar-SA" sz="2900" spc="-1" strike="noStrike">
                <a:solidFill>
                  <a:srgbClr val="c00000"/>
                </a:solidFill>
                <a:latin typeface="Arial"/>
              </a:rPr>
              <a:t>ملخص </a:t>
            </a:r>
            <a:r>
              <a:rPr b="0" lang="ar-IQ" sz="2900" spc="-1" strike="noStrike">
                <a:solidFill>
                  <a:srgbClr val="c00000"/>
                </a:solidFill>
                <a:latin typeface="Arial"/>
              </a:rPr>
              <a:t>ال</a:t>
            </a:r>
            <a:r>
              <a:rPr b="0" lang="ar-SA" sz="2900" spc="-1" strike="noStrike">
                <a:solidFill>
                  <a:srgbClr val="c00000"/>
                </a:solidFill>
                <a:latin typeface="Arial"/>
              </a:rPr>
              <a:t>ايزو </a:t>
            </a:r>
            <a:r>
              <a:rPr b="0" lang="ar-IQ" sz="2900" spc="-1" strike="noStrike">
                <a:solidFill>
                  <a:srgbClr val="c00000"/>
                </a:solidFill>
                <a:latin typeface="Arial"/>
              </a:rPr>
              <a:t>26000</a:t>
            </a:r>
            <a:endParaRPr b="0" lang="en-US" sz="2900" spc="-1" strike="noStrike">
              <a:solidFill>
                <a:srgbClr val="575f6d"/>
              </a:solidFill>
              <a:latin typeface="Arial"/>
            </a:endParaRPr>
          </a:p>
        </p:txBody>
      </p:sp>
      <p:graphicFrame>
        <p:nvGraphicFramePr>
          <p:cNvPr id="1996" name=""/>
          <p:cNvGraphicFramePr/>
          <p:nvPr/>
        </p:nvGraphicFramePr>
        <p:xfrm>
          <a:off x="304920" y="990720"/>
          <a:ext cx="7619760" cy="5011560"/>
        </p:xfrm>
        <a:graphic>
          <a:graphicData uri="http://schemas.openxmlformats.org/drawingml/2006/table">
            <a:tbl>
              <a:tblPr/>
              <a:tblGrid>
                <a:gridCol w="3578040"/>
                <a:gridCol w="1501920"/>
                <a:gridCol w="2539800"/>
              </a:tblGrid>
              <a:tr h="305280">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وصف محتويات الماد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e8637"/>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رقم الماد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e8637"/>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عنوان الماد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e8637"/>
                    </a:solidFill>
                  </a:tcPr>
                </a:tc>
              </a:tr>
              <a:tr h="64728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عرف المحتوي والمجال الذي تغطيه هذه المواصفة الدولية وتحدد قيود واستثناءات معين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1</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جال</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ede8"/>
                    </a:solidFill>
                  </a:tcPr>
                </a:tc>
              </a:tr>
              <a:tr h="122004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د وتقدم تعريف المصطلحات الرئيسية ذات الأهمية البالغة لفهم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a:t>
                      </a:r>
                      <a:r>
                        <a:rPr b="0" lang="ar-IQ"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ولاستخدام هذه المواصفة</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2</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صطلحات</a:t>
                      </a:r>
                      <a:r>
                        <a:rPr b="0" lang="ar-IQ"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تعاريف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مصطلحات المختصر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ffff"/>
                    </a:solidFill>
                  </a:tcPr>
                </a:tc>
              </a:tr>
              <a:tr h="237240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صف العوامل والظروف الهامة التي أثرت على تطور المسئولية المجتمعية والتي يمتد تأثيرها إلي طبيعة وممارسة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وتصف أيضا مفهوم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 نفسها</a:t>
                      </a:r>
                      <a:r>
                        <a:rPr b="0" lang="en-US" sz="2000" spc="-1" strike="noStrike">
                          <a:solidFill>
                            <a:srgbClr val="000000"/>
                          </a:solidFill>
                          <a:latin typeface="Times New Roman"/>
                        </a:rPr>
                        <a:t> – </a:t>
                      </a:r>
                      <a:r>
                        <a:rPr b="0" lang="ar-SA" sz="2000" spc="-1" strike="noStrike">
                          <a:solidFill>
                            <a:srgbClr val="000000"/>
                          </a:solidFill>
                          <a:latin typeface="Times New Roman"/>
                          <a:cs typeface="Times New Roman"/>
                        </a:rPr>
                        <a:t>معناها وكيفية تطبيقها على المنشآت</a:t>
                      </a:r>
                      <a:r>
                        <a:rPr b="0" lang="en-US" sz="2000" spc="-1" strike="noStrike">
                          <a:solidFill>
                            <a:srgbClr val="000000"/>
                          </a:solidFill>
                          <a:latin typeface="Times New Roman"/>
                        </a:rPr>
                        <a:t>. </a:t>
                      </a:r>
                      <a:r>
                        <a:rPr b="0" lang="ar-SA" sz="2000" spc="-1" strike="noStrike">
                          <a:solidFill>
                            <a:srgbClr val="000000"/>
                          </a:solidFill>
                          <a:latin typeface="Times New Roman"/>
                          <a:cs typeface="Times New Roman"/>
                        </a:rPr>
                        <a:t>تتضمن الفقرة دليل إرشادي لشرح كيفية استخدام هذه المواصفة في المنشآت المتوسطة وصغيرة الحجم</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3</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هم المسئولية المجتمعي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ede8"/>
                    </a:solidFill>
                  </a:tcPr>
                </a:tc>
              </a:tr>
              <a:tr h="61020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قدم وتشرح المبادئ العامة للمسؤولية المجتمعي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4</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بادئ المسئولية المجتمعي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7" name=""/>
          <p:cNvGraphicFramePr/>
          <p:nvPr/>
        </p:nvGraphicFramePr>
        <p:xfrm>
          <a:off x="533520" y="304920"/>
          <a:ext cx="8076960" cy="6003720"/>
        </p:xfrm>
        <a:graphic>
          <a:graphicData uri="http://schemas.openxmlformats.org/drawingml/2006/table">
            <a:tbl>
              <a:tblPr/>
              <a:tblGrid>
                <a:gridCol w="3952800"/>
                <a:gridCol w="1431720"/>
                <a:gridCol w="2692440"/>
              </a:tblGrid>
              <a:tr h="215676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تناول الممارستان الخاصتان بالمسؤولية المجتمعية</a:t>
                      </a:r>
                      <a:r>
                        <a:rPr b="0" lang="en-US" sz="2000" spc="-1" strike="noStrike">
                          <a:solidFill>
                            <a:srgbClr val="000000"/>
                          </a:solidFill>
                          <a:latin typeface="Times New Roman"/>
                        </a:rPr>
                        <a:t>: </a:t>
                      </a:r>
                      <a:r>
                        <a:rPr b="0" lang="ar-SA" sz="2000" spc="-1" strike="noStrike">
                          <a:solidFill>
                            <a:srgbClr val="000000"/>
                          </a:solidFill>
                          <a:latin typeface="Times New Roman"/>
                          <a:cs typeface="Times New Roman"/>
                        </a:rPr>
                        <a:t>إدراك المنشاة لمسؤوليتها المجتمعية و تحديدها والمشاركة مع أطرافها المعنية، كما تقدم الإرشاد بشأن العلاقة بين المنشأة وأطرافها المعنية والمجتمع مع إدراك الموضوعات والقضايا الجوهرية المتعلقة بالمسؤولية المجتمعية ومجال تأثير المنشأ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5</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دراك المسئولية المجتمعية والمشاركة مع الأطراف المعني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r>
              <a:tr h="172548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وضح الموضوعات الجوهرية والقضايا المرتبطة بها ذات الصلة بالمسئولية المجتمعية (أنظر الجدول </a:t>
                      </a:r>
                      <a:r>
                        <a:rPr b="0" lang="ar-EG" sz="2000" spc="-1" strike="noStrike">
                          <a:solidFill>
                            <a:srgbClr val="000000"/>
                          </a:solidFill>
                          <a:latin typeface="Times New Roman"/>
                          <a:ea typeface="Times New Roman"/>
                        </a:rPr>
                        <a:t>2</a:t>
                      </a:r>
                      <a:r>
                        <a:rPr b="0" lang="ar-EG" sz="2000" spc="-1" strike="noStrike">
                          <a:solidFill>
                            <a:srgbClr val="000000"/>
                          </a:solidFill>
                          <a:latin typeface="Times New Roman"/>
                          <a:ea typeface="Times New Roman"/>
                        </a:rPr>
                        <a:t>). وبالنسبة لكل موضوع جوهرى تم تقديم معلومات حول مجاله وعلاقته بالمسئولية المجتمعية والمبادئ والإعتبارات والإجراءات والتوقعات ذات الصلة.</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6</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دليل إرشادي حول الموضوعات الجوهرية للمسئولية المجتمعية</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r>
              <a:tr h="258804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قدم دليل إرشادي حول وضع المسئولية المجتمعية في حيز الممارسة داخل المنشأة ، ويتضمن ذلك الإرشاد بشأن: تفهم المنشأة لمسؤوليتها المجتمعية ودمج المسؤولية المجتمعية خلال المنشأة والتواصل بشأن المسؤولية المجتمعية وتحسين مصداقية المنشأة للمسؤولية المجتمعية ومراجعة التقدم الذي يتم إحرازه وتحسين الأداء وتقييم المبادرات الاختيارية للمسؤولية المجتمعي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7</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دليل إرشادي حول دمج المسئولية المجتمعية داخل المنشأ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C0CE-92D5-432D-A300-3B363724C53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1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8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A4BA-CBEC-41D4-943E-010A3C078DAE}"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
          <p:cNvSpPr txBox="1"/>
          <p:nvPr/>
        </p:nvSpPr>
        <p:spPr>
          <a:xfrm>
            <a:off x="571320" y="713880"/>
            <a:ext cx="8001000" cy="54118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يعتبر هذا انعكاساً جزئياً للإدراك المتزايد لمدى الاحتياج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لضمان سلامة النظام البيئي للكون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والجودة المجتمعية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والحوكمة المؤسسية الرشيد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على المدى البعيد فإن أنشطة المنشآت سوف تعتمد على سلامة البيئة وحالتها.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كما أن ضغوط كافة الأطراف المعنية وأصحاب المصالح على المنشآت قد تعاظم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8" name=""/>
          <p:cNvGraphicFramePr/>
          <p:nvPr/>
        </p:nvGraphicFramePr>
        <p:xfrm>
          <a:off x="380880" y="304920"/>
          <a:ext cx="8077320" cy="5284800"/>
        </p:xfrm>
        <a:graphic>
          <a:graphicData uri="http://schemas.openxmlformats.org/drawingml/2006/table">
            <a:tbl>
              <a:tblPr/>
              <a:tblGrid>
                <a:gridCol w="4081680"/>
                <a:gridCol w="1303200"/>
                <a:gridCol w="2692440"/>
              </a:tblGrid>
              <a:tr h="221292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قائمة غير تفصيلية بالآليات والمبادرات التطوعية المتعلقة بالمسؤولية المجتمعية والتى تتناول نشاط جوانب لأحد الموضوعات الجوهرية أو أكثر أو دمج المسؤولية المجتمعية داخل المنشأ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لحق (أ)</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لحق حول الآليات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مبادرات التطوعية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تعلقة بالمسئولية المجتمعي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r>
              <a:tr h="87480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قائمة بالإختصارات المستخدمة في المواصفة.</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لحق (ب)</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إختصارات</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r>
              <a:tr h="132228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شمل المراجع الخاصة بالمواثيق الدولية الرسمية ومواصفات الأيزو الت</a:t>
                      </a:r>
                      <a:r>
                        <a:rPr b="0" lang="ar-IQ" sz="2000" spc="-1" strike="noStrike">
                          <a:solidFill>
                            <a:srgbClr val="000000"/>
                          </a:solidFill>
                          <a:latin typeface="Times New Roman"/>
                          <a:cs typeface="Times New Roman"/>
                        </a:rPr>
                        <a:t>ي</a:t>
                      </a:r>
                      <a:r>
                        <a:rPr b="0" lang="ar-SA" sz="2000" spc="-1" strike="noStrike">
                          <a:solidFill>
                            <a:srgbClr val="000000"/>
                          </a:solidFill>
                          <a:latin typeface="Times New Roman"/>
                          <a:ea typeface="Times New Roman"/>
                        </a:rPr>
                        <a:t> تم الإستعانة بها ف</a:t>
                      </a:r>
                      <a:r>
                        <a:rPr b="0" lang="ar-IQ" sz="2000" spc="-1" strike="noStrike">
                          <a:solidFill>
                            <a:srgbClr val="000000"/>
                          </a:solidFill>
                          <a:latin typeface="Times New Roman"/>
                          <a:cs typeface="Times New Roman"/>
                        </a:rPr>
                        <a:t>ي</a:t>
                      </a:r>
                      <a:r>
                        <a:rPr b="0" lang="ar-SA" sz="2000" spc="-1" strike="noStrike">
                          <a:solidFill>
                            <a:srgbClr val="000000"/>
                          </a:solidFill>
                          <a:latin typeface="Times New Roman"/>
                          <a:ea typeface="Times New Roman"/>
                        </a:rPr>
                        <a:t> هذه المواصفة كمواد مرجعية.</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قائمة المراجع</a:t>
                      </a:r>
                      <a:endParaRPr b="0" lang="en-US" sz="2000" spc="-1" strike="noStrike">
                        <a:solidFill>
                          <a:srgbClr val="000000"/>
                        </a:solidFill>
                        <a:latin typeface="Arial"/>
                      </a:endParaRPr>
                    </a:p>
                  </a:txBody>
                  <a:tcPr anchor="ctr" marL="62640" marR="62640">
                    <a:lnL>
                      <a:noFill/>
                    </a:lnL>
                    <a:lnR>
                      <a:noFill/>
                    </a:lnR>
                    <a:lnT>
                      <a:noFill/>
                    </a:lnT>
                    <a:lnB>
                      <a:noFill/>
                    </a:lnB>
                    <a:noFill/>
                  </a:tcPr>
                </a:tc>
              </a:tr>
              <a:tr h="87480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عنوان المراجع للموضوعات والمفاهيم والمصطلحات الواردة في هذه المواصفة الدولي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هرس</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title"/>
          </p:nvPr>
        </p:nvSpPr>
        <p:spPr>
          <a:xfrm>
            <a:off x="456840" y="274680"/>
            <a:ext cx="7467480" cy="487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نموذج شامل للأيزو </a:t>
            </a:r>
            <a:r>
              <a:rPr b="0" lang="ar-SA" sz="3600" spc="-1" strike="noStrike">
                <a:solidFill>
                  <a:srgbClr val="ff0000"/>
                </a:solidFill>
                <a:latin typeface="Arial"/>
              </a:rPr>
              <a:t>260</a:t>
            </a:r>
            <a:r>
              <a:rPr b="0" lang="ar-IQ" sz="3600" spc="-1" strike="noStrike">
                <a:solidFill>
                  <a:srgbClr val="ff0000"/>
                </a:solidFill>
                <a:latin typeface="Arial"/>
              </a:rPr>
              <a:t>0</a:t>
            </a:r>
            <a:r>
              <a:rPr b="0" lang="ar-SA" sz="3600" spc="-1" strike="noStrike">
                <a:solidFill>
                  <a:srgbClr val="ff0000"/>
                </a:solidFill>
                <a:latin typeface="Arial"/>
              </a:rPr>
              <a:t>0</a:t>
            </a:r>
            <a:endParaRPr b="0" lang="en-US" sz="3600" spc="-1" strike="noStrike">
              <a:solidFill>
                <a:srgbClr val="000000"/>
              </a:solidFill>
              <a:latin typeface="Arial"/>
            </a:endParaRPr>
          </a:p>
        </p:txBody>
      </p:sp>
      <p:pic>
        <p:nvPicPr>
          <p:cNvPr id="2000" name="عنصر نائب للمحتوى 3" descr="2.png"/>
          <p:cNvPicPr/>
          <p:nvPr/>
        </p:nvPicPr>
        <p:blipFill>
          <a:blip r:embed="rId1">
            <a:lum bright="-30000"/>
          </a:blip>
          <a:stretch/>
        </p:blipFill>
        <p:spPr>
          <a:xfrm>
            <a:off x="0" y="914400"/>
            <a:ext cx="9145440" cy="5611680"/>
          </a:xfrm>
          <a:prstGeom prst="rect">
            <a:avLst/>
          </a:prstGeom>
          <a:ln w="0">
            <a:noFill/>
          </a:ln>
        </p:spPr>
      </p:pic>
      <p:sp>
        <p:nvSpPr>
          <p:cNvPr id="200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BA0F-0256-4939-A4BF-66C59BAD19A6}"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3DE4-4897-4A5B-A8FB-E267C93A8D3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456840" y="274320"/>
            <a:ext cx="7467480" cy="563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كيف تتحرك المنشأة في اتجاه</a:t>
            </a:r>
            <a:r>
              <a:rPr b="0" lang="ar-IQ" sz="3000" spc="-1" strike="noStrike">
                <a:solidFill>
                  <a:srgbClr val="ff0000"/>
                </a:solidFill>
                <a:latin typeface="Arial"/>
              </a:rPr>
              <a:t> </a:t>
            </a:r>
            <a:r>
              <a:rPr b="0" lang="ar-SA" sz="3000" spc="-1" strike="noStrike">
                <a:solidFill>
                  <a:srgbClr val="ff0000"/>
                </a:solidFill>
                <a:latin typeface="Arial"/>
              </a:rPr>
              <a:t>تطبيق الأيزو </a:t>
            </a:r>
            <a:r>
              <a:rPr b="0" lang="ar-SA" sz="3000" spc="-1" strike="noStrike">
                <a:solidFill>
                  <a:srgbClr val="ff0000"/>
                </a:solidFill>
                <a:latin typeface="Arial"/>
              </a:rPr>
              <a:t>26000</a:t>
            </a:r>
            <a:r>
              <a:rPr b="0" lang="ar-SA" sz="3000" spc="-1" strike="noStrike">
                <a:solidFill>
                  <a:srgbClr val="ff0000"/>
                </a:solidFill>
                <a:latin typeface="Arial"/>
              </a:rPr>
              <a:t> ؟</a:t>
            </a:r>
            <a:endParaRPr b="0" lang="en-US" sz="3000" spc="-1" strike="noStrike">
              <a:solidFill>
                <a:srgbClr val="575f6d"/>
              </a:solidFill>
              <a:latin typeface="Arial"/>
            </a:endParaRPr>
          </a:p>
        </p:txBody>
      </p:sp>
      <p:sp>
        <p:nvSpPr>
          <p:cNvPr id="2005" name=""/>
          <p:cNvSpPr txBox="1"/>
          <p:nvPr/>
        </p:nvSpPr>
        <p:spPr>
          <a:xfrm>
            <a:off x="456840" y="1219320"/>
            <a:ext cx="7467480" cy="525456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عد اعتبار خصائص المسؤولية المجتمعية وعلاقتها بالتنمية</a:t>
            </a:r>
            <a:r>
              <a:rPr b="0" lang="ar-IQ" sz="2400" spc="-1" strike="noStrike">
                <a:solidFill>
                  <a:srgbClr val="000000"/>
                </a:solidFill>
                <a:latin typeface="Times New Roman"/>
              </a:rPr>
              <a:t> </a:t>
            </a:r>
            <a:r>
              <a:rPr b="0" lang="ar-SA" sz="2400" spc="-1" strike="noStrike">
                <a:solidFill>
                  <a:srgbClr val="000000"/>
                </a:solidFill>
                <a:latin typeface="Times New Roman"/>
              </a:rPr>
              <a:t>المستدامة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3</a:t>
            </a:r>
            <a:r>
              <a:rPr b="0" lang="ar-IQ" sz="2400" spc="-1" strike="noStrike">
                <a:solidFill>
                  <a:srgbClr val="000000"/>
                </a:solidFill>
                <a:latin typeface="Times New Roman"/>
              </a:rPr>
              <a:t>)</a:t>
            </a:r>
            <a:r>
              <a:rPr b="0" lang="ar-SA" sz="2400" spc="-1" strike="noStrike">
                <a:solidFill>
                  <a:srgbClr val="000000"/>
                </a:solidFill>
                <a:latin typeface="Times New Roman"/>
              </a:rPr>
              <a:t> يقترح على المنشأة استعراض مبادئ</a:t>
            </a:r>
            <a:r>
              <a:rPr b="0" lang="ar-IQ" sz="2400" spc="-1" strike="noStrike">
                <a:solidFill>
                  <a:srgbClr val="000000"/>
                </a:solidFill>
                <a:latin typeface="Times New Roman"/>
              </a:rPr>
              <a:t> </a:t>
            </a:r>
            <a:r>
              <a:rPr b="0" lang="ar-SA" sz="2400" spc="-1" strike="noStrike">
                <a:solidFill>
                  <a:srgbClr val="000000"/>
                </a:solidFill>
                <a:latin typeface="Times New Roman"/>
              </a:rPr>
              <a:t>المسؤولية المجتمعية الموضحة في</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4</a:t>
            </a:r>
            <a:r>
              <a:rPr b="0" lang="ar-IQ" sz="2400" spc="-1" strike="noStrike">
                <a:solidFill>
                  <a:srgbClr val="000000"/>
                </a:solidFill>
                <a:latin typeface="Times New Roman"/>
              </a:rPr>
              <a:t>)</a:t>
            </a:r>
            <a:r>
              <a:rPr b="0" lang="ar-SA" sz="2400" spc="-1" strike="noStrike">
                <a:solidFill>
                  <a:srgbClr val="000000"/>
                </a:solidFill>
                <a:latin typeface="Times New Roman"/>
              </a:rPr>
              <a:t> وعند ممارسة</a:t>
            </a:r>
            <a:r>
              <a:rPr b="0" lang="ar-IQ" sz="2400" spc="-1" strike="noStrike">
                <a:solidFill>
                  <a:srgbClr val="000000"/>
                </a:solidFill>
                <a:latin typeface="Times New Roman"/>
              </a:rPr>
              <a:t> </a:t>
            </a:r>
            <a:r>
              <a:rPr b="0" lang="ar-SA" sz="2400" spc="-1" strike="noStrike">
                <a:solidFill>
                  <a:srgbClr val="000000"/>
                </a:solidFill>
                <a:latin typeface="Times New Roman"/>
              </a:rPr>
              <a:t>المسؤولية المجتمعية يجب على المنشآت احترام هذه المبادئ</a:t>
            </a:r>
            <a:r>
              <a:rPr b="0" lang="ar-IQ" sz="2400" spc="-1" strike="noStrike">
                <a:solidFill>
                  <a:srgbClr val="000000"/>
                </a:solidFill>
                <a:latin typeface="Times New Roman"/>
              </a:rPr>
              <a:t> </a:t>
            </a:r>
            <a:r>
              <a:rPr b="0" lang="ar-SA" sz="2400" spc="-1" strike="noStrike">
                <a:solidFill>
                  <a:srgbClr val="000000"/>
                </a:solidFill>
                <a:latin typeface="Times New Roman"/>
              </a:rPr>
              <a:t>والتعاطي معها, </a:t>
            </a:r>
            <a:r>
              <a:rPr b="0" lang="ar-IQ" sz="2400" spc="-1" strike="noStrike">
                <a:solidFill>
                  <a:srgbClr val="000000"/>
                </a:solidFill>
                <a:latin typeface="Times New Roman"/>
              </a:rPr>
              <a:t> </a:t>
            </a:r>
            <a:r>
              <a:rPr b="0" lang="ar-SA" sz="2400" spc="-1" strike="noStrike">
                <a:solidFill>
                  <a:srgbClr val="000000"/>
                </a:solidFill>
                <a:latin typeface="Times New Roman"/>
              </a:rPr>
              <a:t>وكذلك مراعاة المبادئ المحددة لكل</a:t>
            </a:r>
            <a:r>
              <a:rPr b="0" lang="ar-IQ" sz="2400" spc="-1" strike="noStrike">
                <a:solidFill>
                  <a:srgbClr val="000000"/>
                </a:solidFill>
                <a:latin typeface="Times New Roman"/>
              </a:rPr>
              <a:t> </a:t>
            </a:r>
            <a:r>
              <a:rPr b="0" lang="ar-SA" sz="2400" spc="-1" strike="noStrike">
                <a:solidFill>
                  <a:srgbClr val="000000"/>
                </a:solidFill>
                <a:latin typeface="Times New Roman"/>
              </a:rPr>
              <a:t>موضوع محوري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6</a:t>
            </a:r>
            <a:r>
              <a:rPr b="0" lang="ar-IQ" sz="2400" spc="-1" strike="noStrike">
                <a:solidFill>
                  <a:srgbClr val="000000"/>
                </a:solidFill>
                <a:latin typeface="Times New Roman"/>
              </a:rPr>
              <a:t>)</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بل تحليل المواضيع المحورية والقضايا المتعلقة بالمسؤولية</a:t>
            </a:r>
            <a:r>
              <a:rPr b="0" lang="ar-IQ" sz="2400" spc="-1" strike="noStrike">
                <a:solidFill>
                  <a:srgbClr val="000000"/>
                </a:solidFill>
                <a:latin typeface="Times New Roman"/>
              </a:rPr>
              <a:t> </a:t>
            </a:r>
            <a:r>
              <a:rPr b="0" lang="ar-SA" sz="2400" spc="-1" strike="noStrike">
                <a:solidFill>
                  <a:srgbClr val="000000"/>
                </a:solidFill>
                <a:latin typeface="Times New Roman"/>
              </a:rPr>
              <a:t>المجتمعية إضافة إلى أي إجراءات وتوقعات ذات الصلة</a:t>
            </a:r>
            <a:r>
              <a:rPr b="0" lang="ar-IQ" sz="2400" spc="-1" strike="noStrike">
                <a:solidFill>
                  <a:srgbClr val="000000"/>
                </a:solidFill>
                <a:latin typeface="Times New Roman"/>
              </a:rPr>
              <a:t> (</a:t>
            </a:r>
            <a:r>
              <a:rPr b="0" lang="ar-SA" sz="2400" spc="-1" strike="noStrike">
                <a:solidFill>
                  <a:srgbClr val="000000"/>
                </a:solidFill>
                <a:latin typeface="Times New Roman"/>
              </a:rPr>
              <a:t>البند </a:t>
            </a:r>
            <a:r>
              <a:rPr b="0" lang="ar-SA" sz="2400" spc="-1" strike="noStrike">
                <a:solidFill>
                  <a:srgbClr val="000000"/>
                </a:solidFill>
                <a:latin typeface="Times New Roman"/>
              </a:rPr>
              <a:t>6</a:t>
            </a:r>
            <a:r>
              <a:rPr b="0" lang="ar-IQ" sz="2400" spc="-1" strike="noStrike">
                <a:solidFill>
                  <a:srgbClr val="000000"/>
                </a:solidFill>
                <a:latin typeface="Times New Roman"/>
              </a:rPr>
              <a:t>)</a:t>
            </a:r>
            <a:r>
              <a:rPr b="0" lang="ar-SA" sz="2400" spc="-1" strike="noStrike">
                <a:solidFill>
                  <a:srgbClr val="000000"/>
                </a:solidFill>
                <a:latin typeface="Times New Roman"/>
              </a:rPr>
              <a:t>، يجب على المنشأة أن تضع في اعتبارها ممارستين</a:t>
            </a:r>
            <a:r>
              <a:rPr b="0" lang="ar-IQ" sz="2400" spc="-1" strike="noStrike">
                <a:solidFill>
                  <a:srgbClr val="000000"/>
                </a:solidFill>
                <a:latin typeface="Times New Roman"/>
              </a:rPr>
              <a:t> </a:t>
            </a:r>
            <a:r>
              <a:rPr b="0" lang="ar-SA" sz="2400" spc="-1" strike="noStrike">
                <a:solidFill>
                  <a:srgbClr val="000000"/>
                </a:solidFill>
                <a:latin typeface="Times New Roman"/>
              </a:rPr>
              <a:t>أساسيتين للمسؤولية المجتمعية</a:t>
            </a:r>
            <a:r>
              <a:rPr b="0" lang="ar-IQ" sz="2400" spc="-1" strike="noStrike">
                <a:solidFill>
                  <a:srgbClr val="000000"/>
                </a:solidFill>
                <a:latin typeface="Times New Roman"/>
              </a:rPr>
              <a:t>، </a:t>
            </a:r>
            <a:r>
              <a:rPr b="0" lang="ar-SA" sz="2400" spc="-1" strike="noStrike">
                <a:solidFill>
                  <a:srgbClr val="000000"/>
                </a:solidFill>
                <a:latin typeface="Times New Roman"/>
              </a:rPr>
              <a:t>إدراكها واعترافها بمسؤوليتها المجتمعية في دائرة تأثيرها</a:t>
            </a:r>
            <a:r>
              <a:rPr b="0" lang="ar-IQ" sz="2400" spc="-1" strike="noStrike">
                <a:solidFill>
                  <a:srgbClr val="000000"/>
                </a:solidFill>
                <a:latin typeface="Times New Roman"/>
              </a:rPr>
              <a:t> </a:t>
            </a:r>
            <a:r>
              <a:rPr b="0" lang="ar-SA" sz="2400" spc="-1" strike="noStrike">
                <a:solidFill>
                  <a:srgbClr val="000000"/>
                </a:solidFill>
                <a:latin typeface="Times New Roman"/>
              </a:rPr>
              <a:t>وتحديد وإشراك أصحاب المصلحة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5</a:t>
            </a:r>
            <a:r>
              <a:rPr b="0" lang="ar-IQ" sz="2400" spc="-1" strike="noStrike">
                <a:solidFill>
                  <a:srgbClr val="000000"/>
                </a:solidFill>
                <a:latin typeface="Times New Roman"/>
              </a:rPr>
              <a:t>)</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Arial"/>
            </a:endParaRPr>
          </a:p>
        </p:txBody>
      </p:sp>
      <p:sp>
        <p:nvSpPr>
          <p:cNvPr id="2007" name=""/>
          <p:cNvSpPr txBox="1"/>
          <p:nvPr/>
        </p:nvSpPr>
        <p:spPr>
          <a:xfrm>
            <a:off x="456840" y="404280"/>
            <a:ext cx="7467480" cy="6069240"/>
          </a:xfrm>
          <a:prstGeom prst="rect">
            <a:avLst/>
          </a:prstGeom>
          <a:noFill/>
          <a:ln w="0">
            <a:noFill/>
          </a:ln>
        </p:spPr>
        <p:txBody>
          <a:bodyPr anchor="t">
            <a:normAutofit fontScale="85000"/>
          </a:bodyPr>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ال إتمام</a:t>
            </a:r>
            <a:r>
              <a:rPr b="0" lang="ar-IQ" sz="3200" spc="-1" strike="noStrike">
                <a:solidFill>
                  <a:srgbClr val="000000"/>
                </a:solidFill>
                <a:latin typeface="Times New Roman"/>
              </a:rPr>
              <a:t> </a:t>
            </a:r>
            <a:r>
              <a:rPr b="0" lang="ar-SA" sz="3200" spc="-1" strike="noStrike">
                <a:solidFill>
                  <a:srgbClr val="000000"/>
                </a:solidFill>
                <a:latin typeface="Times New Roman"/>
              </a:rPr>
              <a:t>فهم المبادئ وتحديد المواضيع المحورية والقضايا المتعلقة</a:t>
            </a:r>
            <a:r>
              <a:rPr b="0" lang="ar-IQ" sz="3200" spc="-1" strike="noStrike">
                <a:solidFill>
                  <a:srgbClr val="000000"/>
                </a:solidFill>
                <a:latin typeface="Times New Roman"/>
              </a:rPr>
              <a:t> </a:t>
            </a:r>
            <a:r>
              <a:rPr b="0" lang="ar-SA" sz="3200" spc="-1" strike="noStrike">
                <a:solidFill>
                  <a:srgbClr val="000000"/>
                </a:solidFill>
                <a:latin typeface="Times New Roman"/>
              </a:rPr>
              <a:t>بالمسؤولية المجتمعية، يجب على المنشأة العمل على دمج</a:t>
            </a:r>
            <a:r>
              <a:rPr b="0" lang="ar-IQ" sz="3200" spc="-1" strike="noStrike">
                <a:solidFill>
                  <a:srgbClr val="000000"/>
                </a:solidFill>
                <a:latin typeface="Times New Roman"/>
              </a:rPr>
              <a:t> </a:t>
            </a:r>
            <a:r>
              <a:rPr b="0" lang="ar-SA" sz="3200" spc="-1" strike="noStrike">
                <a:solidFill>
                  <a:srgbClr val="000000"/>
                </a:solidFill>
                <a:latin typeface="Times New Roman"/>
              </a:rPr>
              <a:t>وتكامل المسؤولية المجتمعية في قراراتها وأنشطتها</a:t>
            </a:r>
            <a:r>
              <a:rPr b="0" lang="ar-IQ" sz="3200" spc="-1" strike="noStrike">
                <a:solidFill>
                  <a:srgbClr val="000000"/>
                </a:solidFill>
                <a:latin typeface="Times New Roman"/>
              </a:rPr>
              <a:t> </a:t>
            </a:r>
            <a:r>
              <a:rPr b="0" lang="ar-SA" sz="3200" spc="-1" strike="noStrike">
                <a:solidFill>
                  <a:srgbClr val="000000"/>
                </a:solidFill>
                <a:latin typeface="Times New Roman"/>
              </a:rPr>
              <a:t>باستخدام الإرشادات الواردة في </a:t>
            </a:r>
            <a:r>
              <a:rPr b="0" lang="ar-IQ" sz="3200" spc="-1" strike="noStrike">
                <a:solidFill>
                  <a:srgbClr val="000000"/>
                </a:solidFill>
                <a:latin typeface="Times New Roman"/>
              </a:rPr>
              <a:t>(</a:t>
            </a:r>
            <a:r>
              <a:rPr b="0" lang="ar-SA" sz="3200" spc="-1" strike="noStrike">
                <a:solidFill>
                  <a:srgbClr val="000000"/>
                </a:solidFill>
                <a:latin typeface="Times New Roman"/>
              </a:rPr>
              <a:t>البند </a:t>
            </a:r>
            <a:r>
              <a:rPr b="0" lang="ar-SA" sz="3200" spc="-1" strike="noStrike">
                <a:solidFill>
                  <a:srgbClr val="000000"/>
                </a:solidFill>
                <a:latin typeface="Times New Roman"/>
              </a:rPr>
              <a:t>7</a:t>
            </a:r>
            <a:r>
              <a:rPr b="0" lang="ar-IQ" sz="3200" spc="-1" strike="noStrike">
                <a:solidFill>
                  <a:srgbClr val="000000"/>
                </a:solidFill>
                <a:latin typeface="Times New Roman"/>
              </a:rPr>
              <a:t>)</a:t>
            </a:r>
            <a:r>
              <a:rPr b="0" lang="ar-SA" sz="3200" spc="-1" strike="noStrike">
                <a:solidFill>
                  <a:srgbClr val="000000"/>
                </a:solidFill>
                <a:latin typeface="Times New Roman"/>
              </a:rPr>
              <a:t> ويشتمل ذلك على</a:t>
            </a:r>
            <a:r>
              <a:rPr b="0" lang="ar-IQ" sz="3200" spc="-1" strike="noStrike">
                <a:solidFill>
                  <a:srgbClr val="000000"/>
                </a:solidFill>
                <a:latin typeface="Times New Roman"/>
              </a:rPr>
              <a:t> </a:t>
            </a:r>
            <a:r>
              <a:rPr b="0" lang="ar-SA" sz="3200" spc="-1" strike="noStrike">
                <a:solidFill>
                  <a:srgbClr val="000000"/>
                </a:solidFill>
                <a:latin typeface="Times New Roman"/>
              </a:rPr>
              <a:t>عدة ممارسات مثل:</a:t>
            </a:r>
            <a:endParaRPr b="0" lang="en-US" sz="3200" spc="-1" strike="noStrike">
              <a:solidFill>
                <a:srgbClr val="000000"/>
              </a:solidFill>
              <a:latin typeface="Times New Roman"/>
            </a:endParaRPr>
          </a:p>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عل المسؤولية المجتمعية جزءاً لا يتجزأ من سياسات</a:t>
            </a:r>
            <a:r>
              <a:rPr b="0" lang="ar-IQ" sz="3200" spc="-1" strike="noStrike">
                <a:solidFill>
                  <a:srgbClr val="000000"/>
                </a:solidFill>
                <a:latin typeface="Times New Roman"/>
              </a:rPr>
              <a:t> </a:t>
            </a:r>
            <a:r>
              <a:rPr b="0" lang="ar-SA" sz="3200" spc="-1" strike="noStrike">
                <a:solidFill>
                  <a:srgbClr val="000000"/>
                </a:solidFill>
                <a:latin typeface="Times New Roman"/>
              </a:rPr>
              <a:t>المنشأة وثقافتها المؤسسية وإستراتجيتها وعملياتها </a:t>
            </a:r>
            <a:endParaRPr b="0" lang="en-US" sz="3200" spc="-1" strike="noStrike">
              <a:solidFill>
                <a:srgbClr val="000000"/>
              </a:solidFill>
              <a:latin typeface="Times New Roman"/>
            </a:endParaRPr>
          </a:p>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بناء</a:t>
            </a:r>
            <a:r>
              <a:rPr b="0" lang="ar-IQ" sz="3200" spc="-1" strike="noStrike">
                <a:solidFill>
                  <a:srgbClr val="000000"/>
                </a:solidFill>
                <a:latin typeface="Times New Roman"/>
              </a:rPr>
              <a:t> </a:t>
            </a:r>
            <a:r>
              <a:rPr b="0" lang="ar-SA" sz="3200" spc="-1" strike="noStrike">
                <a:solidFill>
                  <a:srgbClr val="000000"/>
                </a:solidFill>
                <a:latin typeface="Times New Roman"/>
              </a:rPr>
              <a:t>الكفاءات الداخلية في المسؤولية المجتمعية وإجراء عمليات</a:t>
            </a:r>
            <a:r>
              <a:rPr b="0" lang="ar-IQ" sz="3200" spc="-1" strike="noStrike">
                <a:solidFill>
                  <a:srgbClr val="000000"/>
                </a:solidFill>
                <a:latin typeface="Times New Roman"/>
              </a:rPr>
              <a:t> </a:t>
            </a:r>
            <a:r>
              <a:rPr b="0" lang="ar-SA" sz="3200" spc="-1" strike="noStrike">
                <a:solidFill>
                  <a:srgbClr val="000000"/>
                </a:solidFill>
                <a:latin typeface="Times New Roman"/>
              </a:rPr>
              <a:t>الاتصال الداخلية والخارجية فيما يتعلق بالمسؤولية</a:t>
            </a:r>
            <a:r>
              <a:rPr b="0" lang="ar-IQ" sz="3200" spc="-1" strike="noStrike">
                <a:solidFill>
                  <a:srgbClr val="000000"/>
                </a:solidFill>
                <a:latin typeface="Times New Roman"/>
              </a:rPr>
              <a:t> </a:t>
            </a:r>
            <a:r>
              <a:rPr b="0" lang="ar-SA" sz="3200" spc="-1" strike="noStrike">
                <a:solidFill>
                  <a:srgbClr val="000000"/>
                </a:solidFill>
                <a:latin typeface="Times New Roman"/>
              </a:rPr>
              <a:t>المجتمعية والعمل على المراجعة والتقييم الدوري لهذه</a:t>
            </a:r>
            <a:r>
              <a:rPr b="0" lang="ar-IQ" sz="3200" spc="-1" strike="noStrike">
                <a:solidFill>
                  <a:srgbClr val="000000"/>
                </a:solidFill>
                <a:latin typeface="Times New Roman"/>
              </a:rPr>
              <a:t> </a:t>
            </a:r>
            <a:r>
              <a:rPr b="0" lang="ar-SA" sz="3200" spc="-1" strike="noStrike">
                <a:solidFill>
                  <a:srgbClr val="000000"/>
                </a:solidFill>
                <a:latin typeface="Times New Roman"/>
              </a:rPr>
              <a:t>الأفعال والممارسات المرتبطة بالمسؤولية المجتمع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340d"/>
              </a:solidFill>
              <a:latin typeface="Arial"/>
            </a:endParaRPr>
          </a:p>
        </p:txBody>
      </p:sp>
      <p:sp>
        <p:nvSpPr>
          <p:cNvPr id="2009" name="PlaceHolder 2"/>
          <p:cNvSpPr>
            <a:spLocks noGrp="1"/>
          </p:cNvSpPr>
          <p:nvPr>
            <p:ph/>
          </p:nvPr>
        </p:nvSpPr>
        <p:spPr>
          <a:xfrm>
            <a:off x="1476360" y="1700280"/>
            <a:ext cx="496728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ولا يمكن أن تحل المس</a:t>
            </a:r>
            <a:r>
              <a:rPr b="0" lang="ar-IQ" sz="3200" spc="-1" strike="noStrike">
                <a:solidFill>
                  <a:srgbClr val="000000"/>
                </a:solidFill>
                <a:latin typeface="Arial"/>
              </a:rPr>
              <a:t>ؤ</a:t>
            </a:r>
            <a:r>
              <a:rPr b="0" lang="ar-SA" sz="3200" spc="-1" strike="noStrike">
                <a:solidFill>
                  <a:srgbClr val="000000"/>
                </a:solidFill>
                <a:latin typeface="Arial"/>
              </a:rPr>
              <a:t>ولية المجتمعية</a:t>
            </a:r>
            <a:r>
              <a:rPr b="0" lang="ar-IQ" sz="3200" spc="-1" strike="noStrike">
                <a:solidFill>
                  <a:srgbClr val="000000"/>
                </a:solidFill>
                <a:latin typeface="Arial"/>
              </a:rPr>
              <a:t> </a:t>
            </a:r>
            <a:r>
              <a:rPr b="0" lang="ar-SA" sz="3200" spc="-1" strike="noStrike">
                <a:solidFill>
                  <a:srgbClr val="000000"/>
                </a:solidFill>
                <a:latin typeface="Arial"/>
              </a:rPr>
              <a:t>للمنشآت بأي شكل من الأشكال محل المس</a:t>
            </a:r>
            <a:r>
              <a:rPr b="0" lang="ar-IQ" sz="3200" spc="-1" strike="noStrike">
                <a:solidFill>
                  <a:srgbClr val="000000"/>
                </a:solidFill>
                <a:latin typeface="Arial"/>
              </a:rPr>
              <a:t>ؤ</a:t>
            </a:r>
            <a:r>
              <a:rPr b="0" lang="ar-SA" sz="3200" spc="-1" strike="noStrike">
                <a:solidFill>
                  <a:srgbClr val="000000"/>
                </a:solidFill>
                <a:latin typeface="Arial"/>
              </a:rPr>
              <a:t>وليات والالتزامات السارية الخاصة بالدولة</a:t>
            </a:r>
            <a:r>
              <a:rPr b="0" lang="ar-IQ"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   وشكراً</a:t>
            </a:r>
            <a:endParaRPr b="0" lang="en-US" sz="3200" spc="-1" strike="noStrike">
              <a:solidFill>
                <a:srgbClr val="000000"/>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251D-2E53-493A-98E4-A29211B458F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201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08BE-D947-4F80-9968-7A4B7D99A89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pic>
        <p:nvPicPr>
          <p:cNvPr id="2013" name="Picture 4" descr=""/>
          <p:cNvPicPr/>
          <p:nvPr/>
        </p:nvPicPr>
        <p:blipFill>
          <a:blip r:embed="rId2"/>
          <a:stretch/>
        </p:blipFill>
        <p:spPr>
          <a:xfrm>
            <a:off x="395280" y="3716280"/>
            <a:ext cx="201780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0000"/>
                </a:solidFill>
                <a:latin typeface="Arial"/>
              </a:rPr>
              <a:t>ما هي الفوائد التي يمكن تحقيقها من تطبيق أيزو </a:t>
            </a:r>
            <a:r>
              <a:rPr b="0" lang="ar-IQ" sz="3200" spc="-1" strike="noStrike">
                <a:solidFill>
                  <a:srgbClr val="ff0000"/>
                </a:solidFill>
                <a:latin typeface="Arial"/>
              </a:rPr>
              <a:t>26000</a:t>
            </a:r>
            <a:r>
              <a:rPr b="0" lang="ar-IQ" sz="3200" spc="-1" strike="noStrike">
                <a:solidFill>
                  <a:srgbClr val="ff0000"/>
                </a:solidFill>
                <a:latin typeface="Arial"/>
              </a:rPr>
              <a:t> ؟</a:t>
            </a:r>
            <a:endParaRPr b="0" lang="en-US" sz="3200" spc="-1" strike="noStrike">
              <a:solidFill>
                <a:srgbClr val="000000"/>
              </a:solidFill>
              <a:latin typeface="Arial"/>
            </a:endParaRPr>
          </a:p>
        </p:txBody>
      </p:sp>
      <p:sp>
        <p:nvSpPr>
          <p:cNvPr id="181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يزة التنافسية</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سمعة</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قدرة على جذب والاحتفاظ بالعاملين والأعضاء والزبائن والعملاء والمستخدمين .</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حافظة على معنويات الموظفين والتزامهم وإنتاجيتهم</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رأي المستثمرين والملاك والمانحين والرعاة والمجتمع المالي</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علاقة مع الشركات والحكومات والإعلام والموردين والنظراء والزبائن والمجتمع المحيط الذى تعمل به.</a:t>
            </a:r>
            <a:endParaRPr b="0" lang="en-US" sz="3000" spc="-1" strike="noStrike">
              <a:solidFill>
                <a:srgbClr val="000000"/>
              </a:solidFill>
              <a:latin typeface="Arial"/>
            </a:endParaRPr>
          </a:p>
        </p:txBody>
      </p:sp>
      <p:sp>
        <p:nvSpPr>
          <p:cNvPr id="18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CF50-0072-464A-90BA-E74D38D507B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9A79-0C6E-4E84-BB16-B9E945249F24}"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ff0000"/>
                </a:solidFill>
                <a:latin typeface="Arial"/>
              </a:rPr>
              <a:t>تقدم المواصفة القياسية الدولية أيزو </a:t>
            </a:r>
            <a:r>
              <a:rPr b="0" lang="ar-IQ" sz="2500" spc="-1" strike="noStrike">
                <a:solidFill>
                  <a:srgbClr val="ff0000"/>
                </a:solidFill>
                <a:latin typeface="Arial"/>
              </a:rPr>
              <a:t>26000</a:t>
            </a:r>
            <a:r>
              <a:rPr b="0" lang="ar-IQ" sz="2500" spc="-1" strike="noStrike">
                <a:solidFill>
                  <a:srgbClr val="ff0000"/>
                </a:solidFill>
                <a:latin typeface="Arial"/>
              </a:rPr>
              <a:t> إرشادات لكل أنواع المنشآت بغض النظر عن حجمها أو موقعها</a:t>
            </a:r>
            <a:r>
              <a:rPr b="0" lang="en-US" sz="2500" spc="-1" strike="noStrike">
                <a:solidFill>
                  <a:srgbClr val="ff0000"/>
                </a:solidFill>
                <a:latin typeface="Arial"/>
              </a:rPr>
              <a:t> </a:t>
            </a:r>
            <a:r>
              <a:rPr b="0" lang="ar-IQ" sz="2500" spc="-1" strike="noStrike">
                <a:solidFill>
                  <a:srgbClr val="ff0000"/>
                </a:solidFill>
                <a:latin typeface="Arial"/>
              </a:rPr>
              <a:t>وهي مكونة من الفصول التالية</a:t>
            </a:r>
            <a:endParaRPr b="0" lang="en-US" sz="2500" spc="-1" strike="noStrike">
              <a:solidFill>
                <a:srgbClr val="000000"/>
              </a:solidFill>
              <a:latin typeface="Arial"/>
            </a:endParaRPr>
          </a:p>
        </p:txBody>
      </p:sp>
      <p:sp>
        <p:nvSpPr>
          <p:cNvPr id="1823" name=""/>
          <p:cNvSpPr txBox="1"/>
          <p:nvPr/>
        </p:nvSpPr>
        <p:spPr>
          <a:xfrm>
            <a:off x="457200" y="1600200"/>
            <a:ext cx="8229600" cy="4525920"/>
          </a:xfrm>
          <a:prstGeom prst="rect">
            <a:avLst/>
          </a:prstGeom>
          <a:noFill/>
          <a:ln w="0">
            <a:noFill/>
          </a:ln>
        </p:spPr>
        <p:txBody>
          <a:bodyPr anchor="t">
            <a:normAutofit fontScale="91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1</a:t>
            </a:r>
            <a:r>
              <a:rPr b="0" lang="ar-IQ" sz="3000" spc="-1" strike="noStrike">
                <a:solidFill>
                  <a:srgbClr val="000000"/>
                </a:solidFill>
                <a:latin typeface="Arial"/>
              </a:rPr>
              <a:t>. المفاهيم والتعاريف والمصطلحات المتعلقة ب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2</a:t>
            </a:r>
            <a:r>
              <a:rPr b="0" lang="ar-IQ" sz="3000" spc="-1" strike="noStrike">
                <a:solidFill>
                  <a:srgbClr val="000000"/>
                </a:solidFill>
                <a:latin typeface="Arial"/>
              </a:rPr>
              <a:t>. خلفية وتوجهات وخصائص 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3</a:t>
            </a:r>
            <a:r>
              <a:rPr b="0" lang="ar-IQ" sz="3000" spc="-1" strike="noStrike">
                <a:solidFill>
                  <a:srgbClr val="000000"/>
                </a:solidFill>
                <a:latin typeface="Arial"/>
              </a:rPr>
              <a:t>. المبادئ والممارسات المتعلقة ب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4</a:t>
            </a:r>
            <a:r>
              <a:rPr b="0" lang="ar-IQ" sz="3000" spc="-1" strike="noStrike">
                <a:solidFill>
                  <a:srgbClr val="000000"/>
                </a:solidFill>
                <a:latin typeface="Arial"/>
              </a:rPr>
              <a:t>. الموضوعات والمسائل المحورية ل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5</a:t>
            </a:r>
            <a:r>
              <a:rPr b="0" lang="ar-IQ" sz="3000" spc="-1" strike="noStrike">
                <a:solidFill>
                  <a:srgbClr val="000000"/>
                </a:solidFill>
                <a:latin typeface="Arial"/>
              </a:rPr>
              <a:t>. دمج وتطبيق وترويج السلوك المسؤول مجتمعياً عبر المنشاة وخلال سياساتها وممارساتها داخل دائرة تأثيرها.</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6</a:t>
            </a:r>
            <a:r>
              <a:rPr b="0" lang="ar-IQ" sz="3000" spc="-1" strike="noStrike">
                <a:solidFill>
                  <a:srgbClr val="000000"/>
                </a:solidFill>
                <a:latin typeface="Arial"/>
              </a:rPr>
              <a:t>. تمييز وإشراك أصحاب المصلح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7</a:t>
            </a:r>
            <a:r>
              <a:rPr b="0" lang="ar-IQ" sz="3000" spc="-1" strike="noStrike">
                <a:solidFill>
                  <a:srgbClr val="000000"/>
                </a:solidFill>
                <a:latin typeface="Arial"/>
              </a:rPr>
              <a:t>. التواصل بشأن التزاماتها وأدائها ومختلف المعلومات المرتبطة بالمسؤولية المجتمعية.</a:t>
            </a:r>
            <a:endParaRPr b="0" lang="en-US" sz="3000" spc="-1" strike="noStrike">
              <a:solidFill>
                <a:srgbClr val="000000"/>
              </a:solidFill>
              <a:latin typeface="Arial"/>
            </a:endParaRPr>
          </a:p>
        </p:txBody>
      </p:sp>
      <p:sp>
        <p:nvSpPr>
          <p:cNvPr id="18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236D-A1BA-4FC3-A2CF-894F9384BF0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F7B9-90D9-40BD-B14F-68D67D7BEB45}"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المسؤولية المجتمعية</a:t>
            </a:r>
            <a:endParaRPr b="0" lang="en-US" sz="3600" spc="-1" strike="noStrike">
              <a:solidFill>
                <a:srgbClr val="000000"/>
              </a:solidFill>
              <a:latin typeface="Arial"/>
            </a:endParaRPr>
          </a:p>
        </p:txBody>
      </p:sp>
      <p:sp>
        <p:nvSpPr>
          <p:cNvPr id="1828" name=""/>
          <p:cNvSpPr txBox="1"/>
          <p:nvPr/>
        </p:nvSpPr>
        <p:spPr>
          <a:xfrm>
            <a:off x="457200" y="1484280"/>
            <a:ext cx="8229600" cy="492120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ون الهدف الرئيسي للمنشأة أثناء ممارسة المسؤولية </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جتمعية هو زيادة مساهمتها في </a:t>
            </a:r>
            <a:r>
              <a:rPr b="0" lang="ar-SA" sz="3200" spc="-1" strike="noStrike">
                <a:solidFill>
                  <a:srgbClr val="0070c0"/>
                </a:solidFill>
                <a:latin typeface="Arial"/>
              </a:rPr>
              <a:t>التنمية المستدامة</a:t>
            </a:r>
            <a:r>
              <a:rPr b="0" lang="fr-CA" sz="3200" spc="-1" strike="noStrike">
                <a:solidFill>
                  <a:srgbClr val="0070c0"/>
                </a:solidFill>
                <a:latin typeface="Arial"/>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نبغي على المنشأة لتحقيق هذا الهدف أن تطبق </a:t>
            </a:r>
            <a:r>
              <a:rPr b="0" lang="ar-SA" sz="3200" spc="-1" strike="noStrike">
                <a:solidFill>
                  <a:srgbClr val="ff0000"/>
                </a:solidFill>
                <a:latin typeface="Arial"/>
              </a:rPr>
              <a:t>السبعة مبادئ </a:t>
            </a:r>
            <a:r>
              <a:rPr b="0" lang="ar-SA" sz="3200" spc="-1" strike="noStrike">
                <a:solidFill>
                  <a:srgbClr val="000000"/>
                </a:solidFill>
                <a:latin typeface="Arial"/>
              </a:rPr>
              <a:t>الموضحة أدناه بالإضافة إلي المبادئ المخصصة لكل موضوع جوهر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تطبيق هذه المواصفة الدولية فمن الأفضل أن تأخذ المنشأة في اعتبارها </a:t>
            </a:r>
            <a:r>
              <a:rPr b="0" lang="ar-SA" sz="3200" spc="-1" strike="noStrike">
                <a:solidFill>
                  <a:srgbClr val="0070c0"/>
                </a:solidFill>
                <a:latin typeface="Arial"/>
              </a:rPr>
              <a:t>الاختلافات</a:t>
            </a:r>
            <a:r>
              <a:rPr b="0" lang="ar-SA" sz="3200" spc="-1" strike="noStrike">
                <a:solidFill>
                  <a:srgbClr val="000000"/>
                </a:solidFill>
                <a:latin typeface="Arial"/>
              </a:rPr>
              <a:t> الاجتماعية، البيئية، القانونية، الثقافية، السياسية، والتنظيمية، وكذلك الاختلافات في الظروف والأحوال الاقتصاد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78C1-D763-4BCF-B1C2-31A28773988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30"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5AE9-7FF2-4303-ABDF-E7AB4BF9EF34}"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2880"/>
            <a:ext cx="7786800" cy="635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مبادئ المسؤولية المجتمعية السبعة</a:t>
            </a:r>
            <a:endParaRPr b="0" lang="en-US" sz="3600" spc="-1" strike="noStrike">
              <a:solidFill>
                <a:srgbClr val="000000"/>
              </a:solidFill>
              <a:latin typeface="Arial"/>
            </a:endParaRPr>
          </a:p>
        </p:txBody>
      </p:sp>
      <p:sp>
        <p:nvSpPr>
          <p:cNvPr id="1833" name=""/>
          <p:cNvSpPr txBox="1"/>
          <p:nvPr/>
        </p:nvSpPr>
        <p:spPr>
          <a:xfrm>
            <a:off x="5292720" y="272520"/>
            <a:ext cx="3394080" cy="5853240"/>
          </a:xfrm>
          <a:prstGeom prst="rect">
            <a:avLst/>
          </a:prstGeom>
          <a:noFill/>
          <a:ln w="0">
            <a:noFill/>
          </a:ln>
        </p:spPr>
        <p:txBody>
          <a:bodyPr anchor="t">
            <a:normAutofit fontScale="90000"/>
          </a:bodyPr>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هذه المبادئ تحدد قيم سلوكية قوية لتوجيه أفعال المنظمة واتخاذها القرارات</a:t>
            </a: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بادئ تنطبق على جميع المجالات المحددة في المواضيع الأساسية </a:t>
            </a:r>
            <a:r>
              <a:rPr b="0" lang="en-US" sz="2800" spc="-1" strike="noStrike">
                <a:solidFill>
                  <a:srgbClr val="000000"/>
                </a:solidFill>
                <a:latin typeface="Arial"/>
              </a:rPr>
              <a:t>Core Subjects</a:t>
            </a:r>
            <a:endParaRPr b="0" lang="en-US" sz="2800" spc="-1" strike="noStrike">
              <a:solidFill>
                <a:srgbClr val="000000"/>
              </a:solidFill>
              <a:latin typeface="Arial"/>
            </a:endParaRPr>
          </a:p>
        </p:txBody>
      </p:sp>
      <p:sp>
        <p:nvSpPr>
          <p:cNvPr id="1834" name="PlaceHolder 2"/>
          <p:cNvSpPr>
            <a:spLocks noGrp="1"/>
          </p:cNvSpPr>
          <p:nvPr>
            <p:ph/>
          </p:nvPr>
        </p:nvSpPr>
        <p:spPr>
          <a:xfrm>
            <a:off x="457200" y="1628280"/>
            <a:ext cx="4619520" cy="4497480"/>
          </a:xfrm>
          <a:prstGeom prst="rect">
            <a:avLst/>
          </a:prstGeom>
          <a:noFill/>
          <a:ln w="9360">
            <a:solidFill>
              <a:srgbClr val="000000"/>
            </a:solidFill>
            <a:miter/>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2</a:t>
            </a:r>
            <a:r>
              <a:rPr b="0" lang="ar-IQ" sz="2800" spc="-1" strike="noStrike">
                <a:solidFill>
                  <a:srgbClr val="ff0000"/>
                </a:solidFill>
                <a:latin typeface="Arial"/>
              </a:rPr>
              <a:t> القابلية للمساءل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3</a:t>
            </a:r>
            <a:r>
              <a:rPr b="0" lang="ar-IQ" sz="2800" spc="-1" strike="noStrike">
                <a:solidFill>
                  <a:srgbClr val="ff0000"/>
                </a:solidFill>
                <a:latin typeface="Arial"/>
              </a:rPr>
              <a:t> الشفافي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4</a:t>
            </a:r>
            <a:r>
              <a:rPr b="0" lang="ar-IQ" sz="2800" spc="-1" strike="noStrike">
                <a:solidFill>
                  <a:srgbClr val="ff0000"/>
                </a:solidFill>
                <a:latin typeface="Arial"/>
              </a:rPr>
              <a:t> السلوك الأخلاقي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5</a:t>
            </a:r>
            <a:r>
              <a:rPr b="0" lang="ar-IQ" sz="2800" spc="-1" strike="noStrike">
                <a:solidFill>
                  <a:srgbClr val="ff0000"/>
                </a:solidFill>
                <a:latin typeface="Arial"/>
              </a:rPr>
              <a:t>احترام مصالح الأطراف المعني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6</a:t>
            </a:r>
            <a:r>
              <a:rPr b="0" lang="ar-IQ" sz="2800" spc="-1" strike="noStrike">
                <a:solidFill>
                  <a:srgbClr val="ff0000"/>
                </a:solidFill>
                <a:latin typeface="Arial"/>
              </a:rPr>
              <a:t> احترام سيادة القانون</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7</a:t>
            </a:r>
            <a:r>
              <a:rPr b="0" lang="ar-IQ" sz="2800" spc="-1" strike="noStrike">
                <a:solidFill>
                  <a:srgbClr val="ff0000"/>
                </a:solidFill>
                <a:latin typeface="Arial"/>
              </a:rPr>
              <a:t> احترام المعايير الدولية للسلوك</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8</a:t>
            </a:r>
            <a:r>
              <a:rPr b="0" lang="ar-IQ" sz="2800" spc="-1" strike="noStrike">
                <a:solidFill>
                  <a:srgbClr val="ff0000"/>
                </a:solidFill>
                <a:latin typeface="Arial"/>
              </a:rPr>
              <a:t> احترام حقوق الإنسان</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EBDB-386A-4473-82BA-44CC80D1CFC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6518-37AA-48DF-9519-251F772C3A1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8" name="Picture 2" descr="http://www.massmart.co.za/invest_profile/financial_results/2010/massmart_ar2010/i/accountability_icon4.jpg"/>
          <p:cNvPicPr/>
          <p:nvPr/>
        </p:nvPicPr>
        <p:blipFill>
          <a:blip r:embed="rId1"/>
          <a:stretch/>
        </p:blipFill>
        <p:spPr>
          <a:xfrm>
            <a:off x="971640" y="3236760"/>
            <a:ext cx="904680" cy="1194120"/>
          </a:xfrm>
          <a:prstGeom prst="rect">
            <a:avLst/>
          </a:prstGeom>
          <a:ln w="0">
            <a:noFill/>
          </a:ln>
        </p:spPr>
      </p:pic>
      <p:sp>
        <p:nvSpPr>
          <p:cNvPr id="1839" name="PlaceHolder 1"/>
          <p:cNvSpPr>
            <a:spLocks noGrp="1"/>
          </p:cNvSpPr>
          <p:nvPr>
            <p:ph type="title"/>
          </p:nvPr>
        </p:nvSpPr>
        <p:spPr>
          <a:xfrm>
            <a:off x="457200" y="553680"/>
            <a:ext cx="8229600" cy="1143000"/>
          </a:xfrm>
          <a:prstGeom prst="rect">
            <a:avLst/>
          </a:prstGeom>
          <a:noFill/>
          <a:ln w="0">
            <a:noFill/>
          </a:ln>
        </p:spPr>
        <p:txBody>
          <a:bodyPr anchor="ctr">
            <a:noAutofit/>
          </a:bodyPr>
          <a:p>
            <a:pPr marL="743040" indent="-743040" algn="r" rtl="1">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قابلية للمسائلة</a:t>
            </a:r>
            <a:r>
              <a:rPr b="0" lang="ar-IQ" sz="3200" spc="-1" strike="noStrike">
                <a:solidFill>
                  <a:srgbClr val="ff0000"/>
                </a:solidFill>
                <a:latin typeface="Arial"/>
              </a:rPr>
              <a:t> </a:t>
            </a:r>
            <a:r>
              <a:rPr b="0" lang="en-US" sz="3200" spc="-1" strike="noStrike">
                <a:solidFill>
                  <a:srgbClr val="ff0000"/>
                </a:solidFill>
                <a:latin typeface="Arial"/>
              </a:rPr>
              <a:t>Accountability</a:t>
            </a:r>
            <a:endParaRPr b="0" lang="en-US" sz="3200" spc="-1" strike="noStrike">
              <a:solidFill>
                <a:srgbClr val="000000"/>
              </a:solidFill>
              <a:latin typeface="Arial"/>
            </a:endParaRPr>
          </a:p>
        </p:txBody>
      </p:sp>
      <p:sp>
        <p:nvSpPr>
          <p:cNvPr id="1840" name=""/>
          <p:cNvSpPr txBox="1"/>
          <p:nvPr/>
        </p:nvSpPr>
        <p:spPr>
          <a:xfrm>
            <a:off x="457200" y="1557000"/>
            <a:ext cx="8229600" cy="48481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أن المنشأة ينبغي أن تكون مستجيبة للمسائلة</a:t>
            </a:r>
            <a:r>
              <a:rPr b="0" lang="ar-IQ" sz="3000" spc="-1" strike="noStrike">
                <a:solidFill>
                  <a:srgbClr val="0070c0"/>
                </a:solidFill>
                <a:latin typeface="Arial"/>
              </a:rPr>
              <a:t> </a:t>
            </a:r>
            <a:r>
              <a:rPr b="0" lang="ar-SA" sz="3000" spc="-1" strike="noStrike">
                <a:solidFill>
                  <a:srgbClr val="0070c0"/>
                </a:solidFill>
                <a:latin typeface="Arial"/>
              </a:rPr>
              <a:t>عن تأثيراتها</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 على المجتمع والبيئة.</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70c0"/>
                </a:solidFill>
                <a:latin typeface="Arial"/>
              </a:rPr>
              <a:t>أن المنشأة ينبغي أن تقبل وتوافق على الفحص والتدقيق الملائمين وأن توافق أيضا على مسئوليتها في التجاوب مع هذا الفحص والتدقيق.</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a144"/>
                </a:solidFill>
                <a:latin typeface="Arial"/>
              </a:rPr>
              <a:t>    </a:t>
            </a:r>
            <a:r>
              <a:rPr b="0" lang="ar-SA" sz="3000" spc="-1" strike="noStrike">
                <a:solidFill>
                  <a:srgbClr val="000000"/>
                </a:solidFill>
                <a:latin typeface="Arial"/>
              </a:rPr>
              <a:t>وينبغي أن تسأل المنشأة عما يلي</a:t>
            </a:r>
            <a:r>
              <a:rPr b="0" lang="en-US" sz="3000" spc="-1" strike="noStrike">
                <a:solidFill>
                  <a:srgbClr val="000000"/>
                </a:solidFill>
                <a:latin typeface="Arial"/>
              </a:rPr>
              <a:t>:</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نتائج قراراتها وأنشطتها على المجتمع والبيئة والاقتصاد وبالأخص النتائج الغير مقصودة.</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جراءات التي اتخذت لمنع تكرار هذه الآثار السلبية غير المقصودة وغير المنظورة.</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1"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880F-74E6-4EDB-9A53-DCFFCA4DC6B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1842"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3F8E-ACCF-4158-BB3A-D2C1B54A2C03}"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3T22:29:21Z</dcterms:created>
  <dc:creator>Mediac</dc:creator>
  <dc:description/>
  <dc:language>en-US</dc:language>
  <cp:lastModifiedBy>DR.Ahmed Saker 2o1O</cp:lastModifiedBy>
  <dcterms:modified xsi:type="dcterms:W3CDTF">2013-12-03T09:47:00Z</dcterms:modified>
  <cp:revision>49</cp:revision>
  <dc:subject/>
  <dc:title>Presentation Name</dc:title>
</cp:coreProperties>
</file>